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B7D-2358-4E35-94F8-EFB69BFF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C83-539B-4016-983F-B2A681E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8AC-B212-419F-9059-8D4E3EFE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B3F-8305-4421-AB96-149C8BA0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2F0-CA5F-4D01-A151-DA668650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C5CF-16F1-4964-893E-AB9372A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670-9128-45D2-B454-3B58D968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1BD-C9DF-47A8-B9EB-DEFC7973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B4A-D389-46E2-A01F-807DA1D3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EFE9-9A4B-43D4-8875-92D7BB54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B137-4723-4C1E-926C-EDE1568D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FB0-98BE-4357-9402-1B152C3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97CF-5DEA-4847-B00A-836D290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684-40DE-46F8-B504-B0118CB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06F-0338-4AE1-9D14-F84CDAF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39BF-C60B-4049-8A25-C85EE713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D042-9927-4838-9744-E945B714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6D3-E829-400D-A610-5F63A89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222-640C-43AD-AC85-1A433C92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232-23AA-421B-AE61-95A4D8C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FB7-A1C1-45CD-9599-B26008E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044-6E02-471D-B5C8-F64492F9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E9B-DC37-4311-9035-1998B16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C3D-27E4-4A94-95AA-2C4A1DA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F285-1D58-423D-A6D6-5E0B9006F9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7D53-F2F2-4272-9E8D-094CDE7516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57e5"/>
                </a:solidFill>
                <a:latin typeface="Times New Roman"/>
              </a:rPr>
              <a:t>KIỂM TRA BÀI C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2400" y="6847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643356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ác em nhận xét gì về văn bản trê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876920" y="2895480"/>
            <a:ext cx="3429000" cy="762120"/>
          </a:xfrm>
          <a:prstGeom prst="wedgeRectCallout">
            <a:avLst>
              <a:gd name="adj1" fmla="val -24398"/>
              <a:gd name="adj2" fmla="val -8666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ột phần nhỏ của bảng bị nhảy sang trang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38840" y="2747880"/>
            <a:ext cx="590400" cy="542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419720" cy="33148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28600" y="1295280"/>
            <a:ext cx="3962520" cy="3276720"/>
            <a:chOff x="228600" y="1295280"/>
            <a:chExt cx="3962520" cy="3276720"/>
          </a:xfrm>
        </p:grpSpPr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228600" y="1295280"/>
              <a:ext cx="3962520" cy="327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8" name=""/>
            <p:cNvSpPr/>
            <p:nvPr/>
          </p:nvSpPr>
          <p:spPr>
            <a:xfrm>
              <a:off x="750960" y="3947760"/>
              <a:ext cx="1349640" cy="144000"/>
            </a:xfrm>
            <a:prstGeom prst="rect">
              <a:avLst/>
            </a:prstGeom>
            <a:solidFill>
              <a:srgbClr val="ff000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705720" y="1828800"/>
            <a:ext cx="1600200" cy="3808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876920"/>
            <a:ext cx="7772400" cy="1218960"/>
          </a:xfrm>
          <a:prstGeom prst="upArrowCallout">
            <a:avLst>
              <a:gd name="adj1" fmla="val -157720"/>
              <a:gd name="adj2" fmla="val 159406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ận dụng những kiến thức về trình bày văn bản đã họ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thử đưa ra cách khắc phục những lỗi trên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28600" y="1295280"/>
            <a:ext cx="8534520" cy="3314880"/>
            <a:chOff x="228600" y="1295280"/>
            <a:chExt cx="8534520" cy="33148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4343400" y="1295280"/>
              <a:ext cx="4419720" cy="331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228600" y="1295280"/>
              <a:ext cx="3962520" cy="3276720"/>
              <a:chOff x="228600" y="1295280"/>
              <a:chExt cx="3962520" cy="327672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1295280"/>
                <a:ext cx="3962520" cy="3276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750960" y="3947760"/>
                <a:ext cx="1349640" cy="144000"/>
              </a:xfrm>
              <a:prstGeom prst="rect">
                <a:avLst/>
              </a:prstGeom>
              <a:solidFill>
                <a:srgbClr val="ff0000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6705720" y="1828800"/>
              <a:ext cx="1600200" cy="3808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3520" y="4876920"/>
            <a:ext cx="7772400" cy="1218960"/>
          </a:xfrm>
          <a:prstGeom prst="upArrowCallout">
            <a:avLst>
              <a:gd name="adj1" fmla="val -157720"/>
              <a:gd name="adj2" fmla="val 159406"/>
              <a:gd name="adj3" fmla="val 16667"/>
              <a:gd name="adj4" fmla="val 666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ên xem văn bản trước khi in để sửa chữa kịp thời các lỗ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ánh phải in lại nhiều lần và tránh lãng phí giấ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876920"/>
            <a:ext cx="8001000" cy="1218960"/>
          </a:xfrm>
          <a:prstGeom prst="upArrowCallout">
            <a:avLst>
              <a:gd name="adj1" fmla="val -153031"/>
              <a:gd name="adj2" fmla="val 164095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ệc xem lại 1 văn bản trước khi in ra giấy có quan trọng khô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ại s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432600" y="152388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ết thú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076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1080" y="9896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4998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6095880"/>
            <a:ext cx="6476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914400"/>
            <a:ext cx="3200400" cy="533520"/>
          </a:xfrm>
          <a:prstGeom prst="wedgeRectCallout">
            <a:avLst>
              <a:gd name="adj1" fmla="val -34921"/>
              <a:gd name="adj2" fmla="val 10148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ướng tr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969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0360" y="98964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8320" y="14468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Đặt lề cho tra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1080" y="9896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717560"/>
            <a:ext cx="7086600" cy="326160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Lưu 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Đừng nhầm lề trang với lề đoạn văn. Lề đoạn văn được tính từ lề trang và có thể ”thò” ra ngoài lề t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Nếu văn bản có nhiều trang, việc trình bày trang có tác dụng đến mọi trang của văn bả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960" y="83736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Times New Roman"/>
              </a:rPr>
              <a:t>2. Chọn hướng trang và đặt lề t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0200" y="129456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e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ge Set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/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562720" cy="5105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96160" y="4495680"/>
            <a:ext cx="2133720" cy="990720"/>
          </a:xfrm>
          <a:prstGeom prst="wedgeRectCallout">
            <a:avLst>
              <a:gd name="adj1" fmla="val -83629"/>
              <a:gd name="adj2" fmla="val 4406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ình ảnh của trang ứng với các lựa chọn trê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960" y="83736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Times New Roman"/>
              </a:rPr>
              <a:t>3. Chọn hướng trang và đặt lề trang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755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2400" y="181188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8080" y="2535480"/>
            <a:ext cx="7543800" cy="971640"/>
            <a:chOff x="838080" y="2535480"/>
            <a:chExt cx="7543800" cy="971640"/>
          </a:xfrm>
        </p:grpSpPr>
        <p:sp>
          <p:nvSpPr>
            <p:cNvPr id="173" name=""/>
            <p:cNvSpPr/>
            <p:nvPr/>
          </p:nvSpPr>
          <p:spPr>
            <a:xfrm>
              <a:off x="838080" y="2535480"/>
              <a:ext cx="7543800" cy="971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 văn bản bằng cách nháy nút lệnh Print (in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trên thanh công cụ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391520" y="2613240"/>
              <a:ext cx="68580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762120" y="3849480"/>
            <a:ext cx="7619760" cy="1410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Lưu ý: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0000"/>
                </a:solidFill>
                <a:latin typeface="Arial"/>
              </a:rPr>
              <a:t>Để có thể in được, máy tính của em phải được nối với máy in và máy in phải được bậ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914400"/>
            <a:ext cx="7162920" cy="947160"/>
          </a:xfrm>
          <a:prstGeom prst="rect">
            <a:avLst/>
          </a:prstGeom>
          <a:solidFill>
            <a:srgbClr val="fff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Em quan sát được các thao tác gì trong đoạn video đ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2400" y="9896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89640" y="167544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em trước khi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2306880"/>
            <a:ext cx="7543800" cy="971640"/>
            <a:chOff x="914400" y="2306880"/>
            <a:chExt cx="7543800" cy="971640"/>
          </a:xfrm>
        </p:grpSpPr>
        <p:sp>
          <p:nvSpPr>
            <p:cNvPr id="181" name=""/>
            <p:cNvSpPr/>
            <p:nvPr/>
          </p:nvSpPr>
          <p:spPr>
            <a:xfrm>
              <a:off x="914400" y="2306880"/>
              <a:ext cx="7543800" cy="971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háy nút Print Preview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(Xem trước khi in) để kiểm tra trình bày của tra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_x0013__x000f_" descr=""/>
            <p:cNvPicPr/>
            <p:nvPr/>
          </p:nvPicPr>
          <p:blipFill>
            <a:blip r:embed="rId1"/>
            <a:stretch/>
          </p:blipFill>
          <p:spPr>
            <a:xfrm>
              <a:off x="4496040" y="2395800"/>
              <a:ext cx="44424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914400" y="1506600"/>
            <a:ext cx="7543440" cy="5352480"/>
            <a:chOff x="914400" y="1506600"/>
            <a:chExt cx="7543440" cy="535248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14400" y="1506600"/>
              <a:ext cx="754344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914400" y="6490800"/>
              <a:ext cx="75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ửa sổ xem trước khi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558840" y="4419720"/>
            <a:ext cx="1597320" cy="1295280"/>
            <a:chOff x="6558840" y="4419720"/>
            <a:chExt cx="1597320" cy="1295280"/>
          </a:xfrm>
        </p:grpSpPr>
        <p:sp>
          <p:nvSpPr>
            <p:cNvPr id="187" name=""/>
            <p:cNvSpPr/>
            <p:nvPr/>
          </p:nvSpPr>
          <p:spPr>
            <a:xfrm flipH="1" flipV="1">
              <a:off x="7410960" y="4800600"/>
              <a:ext cx="652320" cy="457200"/>
            </a:xfrm>
            <a:prstGeom prst="line">
              <a:avLst/>
            </a:prstGeom>
            <a:ln w="381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7410960" y="4800600"/>
              <a:ext cx="745200" cy="914400"/>
            </a:xfrm>
            <a:prstGeom prst="line">
              <a:avLst/>
            </a:prstGeom>
            <a:ln w="381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8840" y="4419720"/>
              <a:ext cx="15278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út lật tr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105520" y="838080"/>
            <a:ext cx="3725640" cy="642600"/>
          </a:xfrm>
          <a:prstGeom prst="wedgeRectCallout">
            <a:avLst>
              <a:gd name="adj1" fmla="val -32495"/>
              <a:gd name="adj2" fmla="val 181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Đóng cửa sổ, về chế độ xem bình thườ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23920"/>
            <a:ext cx="6934320" cy="52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2820240" y="643356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ác em nhận xét gì về văn bản trê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5334120"/>
            <a:ext cx="2362320" cy="22860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4800600"/>
            <a:ext cx="1828800" cy="380880"/>
          </a:xfrm>
          <a:prstGeom prst="wedgeRectCallout">
            <a:avLst>
              <a:gd name="adj1" fmla="val -57550"/>
              <a:gd name="adj2" fmla="val 1083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òng “mồ cô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246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8:44:07Z</dcterms:created>
  <dc:creator/>
  <dc:description/>
  <dc:language>en-US</dc:language>
  <cp:lastModifiedBy>MR QUANG</cp:lastModifiedBy>
  <dcterms:modified xsi:type="dcterms:W3CDTF">2009-01-26T08:44:11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