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wmf" ContentType="image/x-wmf"/>
  <Override PartName="/ppt/media/image23.jpeg" ContentType="image/jpeg"/>
  <Override PartName="/ppt/media/image19.gif" ContentType="image/gif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  <p:custShowLst>
    <p:custShow name="Custom Show 1" id="0">
      <p:sldLst>
        <p:sld r:id="rId41"/>
        <p:sld r:id="rId4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D5F-246A-4173-8106-48840B45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774-FB5A-4BF5-B4B4-772C836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B9DE1-8C22-47A3-AB0E-C91B6D7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534C2-F273-4C16-81E7-CDE3FFA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F6A7A-5D88-4DE7-8CFE-C7E8C80C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8B327-E544-4574-AD8E-84399B1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9BC7-106F-4C73-A948-2F2D293B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23663-E8EA-4455-A271-0EE2246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3544C-968C-483F-B520-A78D64F1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FE4BC-573C-452A-9EF8-807C211C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B4C72-A328-4FF2-BF7C-C24B2C5A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6DA04-ABE2-4701-B25D-9BA4401A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484-37B1-4343-972F-81204EC8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C17C1-F249-42C4-82E7-32C902E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8C95C-BB65-4F95-9851-B62657E5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779F8-2877-4960-B74C-58253F71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4C910-AD01-43A9-A42C-77962CF7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A4104-594A-4390-B393-DEFE4A81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C3DD5-8662-447B-85E2-8150816E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3458-D7CC-42B6-8948-1DE2DBB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D3DC2-9406-40EF-9020-6524FFB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4365E-3F31-46EE-9EFD-1136CD9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CE214-8ECB-4B9C-A78E-D15E4B32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64D-CA51-4210-A3A2-0FE98328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2F586-8892-4957-8F1B-949E602D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48770-6E17-4D69-8E37-C3DF5CC2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990F4-7F0E-4EC0-8BBC-5D8ECE77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AB3EE-8DA1-4054-81EF-ACD7407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DE84-8CD3-4D7D-8BD5-A7DB2F87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96666-F01E-4EFD-9CCF-2D4B63E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2682F-EA34-4CCD-833D-1058497C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DA0A9-5574-4F71-8ED4-4063D4B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CD181-06B8-4297-9EBF-B4FF388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F32AD-2A4C-45F3-BB13-33C4FD7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2031-A79E-4810-ACD4-BF0F76C7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7E94C-1126-4E31-8A5D-6BCB52A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ADA5-F4E6-4B18-B429-A5837455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B7B82-8555-40BD-B3D0-2480FEDB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CDA72-0193-4B37-96E9-AEE87668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0401F-BD62-49EB-972C-84B08F6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2641A-1C66-4A3C-A983-DFAA82A7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7981F-18CC-429D-A5D4-1169477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806A2-7D47-46FE-9D48-E99C9C8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932C0-CB6F-4124-826E-752CB0AD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2A653-87F0-41BB-BACC-DC66C4E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6CE4-625A-47F7-BEB5-71A49202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B3ED6-9B4A-464B-9C31-644CE65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6A172-A27F-4A3B-B2C6-F45E1F8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C7A47-2867-44FD-8849-153A36C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7BA96-D01F-407D-9986-EBA68C5D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2BDB8-B0A4-4AA6-9BD0-45DD744F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9F5DC-6944-458C-B429-87501FF3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0AF33-B53C-4FD7-A68F-80AE0DE7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2AE5F-59B6-4DED-851D-40DD2FF7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0B3B5-105A-41BF-9FC7-51D50C2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4CEFB-9866-440B-938E-AE134FA5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F80E-CD5D-4136-A451-0EEAAB6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612E2-8171-4BD5-B6CD-6591717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063D0-6626-4A27-88D4-04C594F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A5AAB-305D-4FF3-BA3F-0539B22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2007A-0FA2-41DE-9BD2-3ACC9830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ABEA5-3739-4F12-AE31-CEE886FA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F89A3-4E14-4265-B5A4-1872B623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35B3F-7ABB-4755-97EC-CC99F335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7ED0F-318F-41DB-8223-E45DE9FD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D75F4-2106-4DCF-BCAC-35E9D93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F94A7-331C-4B58-8C8D-5621CD89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E090-1ACE-4888-A7CD-7DA0C521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A5C34-6D05-43DE-8243-25CE1A64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CB787-4042-4381-A86C-08ED2EB1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58C4A-33F4-4939-83D8-C61FFF9B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ED228-1F25-4E84-AB52-2E812C7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2A1C3-AAF8-4052-8538-C0F2C59C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38938-49A6-4994-BE37-FD965C4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DFB95-01B1-419E-A819-5109CD80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B3DB6-8B6E-4299-86CE-9AA5C284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C58AD-E38A-4C55-9EB4-0411A6B9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D8054-16E9-41AC-B5E6-9DE26A99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7274-6E2A-486E-BEBB-73CD4B8C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CBF58-4E63-4890-BD72-591786D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203F5-3E80-4B3A-A64C-68F10C0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8AAEA-10F5-4F67-A2E1-21410430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368AA-704E-4FCD-8913-DC6F75E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7CC0F-F5F9-42FC-A11C-C57AA80F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9DACD-D38B-43C7-9E90-84F2915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0401F-E952-40B1-B6AE-C95BF29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48CBD-C08E-4D13-B033-426430B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AC191-536D-4574-9651-A61131E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59B7B-3C4F-40FE-818C-E1C2FBA2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DCCB-585A-4A4B-9E30-F784363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6D0CE-14F0-4E20-ACD2-53B6DEC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57010-E718-4C3D-97F5-B20FD096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E40FE-9B62-497C-B567-23E3862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FD6BB-1D0B-4344-9671-78FBB2D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E479E-6376-44D0-9E63-33A25BD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0F211-9504-4859-A2D0-0DC0EA6D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71B58-DA62-4D6B-B907-CD48A630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97ED1-4936-447C-975E-DF9E403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1A84B-1EDB-4F13-A414-A475DF8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78B33-F74F-442E-8967-D7F7DF4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4E04-E5F8-47FE-AC58-02C9E4AD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2C4B3-3132-4C18-8547-72B4B47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C355B-3D05-46DA-B2A4-169BED93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2F992-401C-4BA5-8550-7026EBD8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C6366-D8E9-4E4C-B186-6BCA4A20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37052-2881-4731-90CB-E3BEFFD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44B41-DC7B-476D-BEF2-0E7A08E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BB1E8-F810-49CA-B143-D724ECA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9CB0C-6CDD-45B3-A4C8-5C8BA4B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E443E-2B76-45FC-8FDC-3262704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39CE7-FFAB-44D6-A54B-7001F17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F8A-5EA1-497F-AC59-22E4EBA4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88DE-F5B1-436F-ACF8-E6AEA51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8E6E7-A87F-472C-AA35-9380761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B6252-8F8B-41DD-BDFC-90658DC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BBA88-8993-4065-9BFC-9E560DD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ED290-FF5B-4595-A102-0396332F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537CA-8374-4494-A883-D5C8A0C2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7E62D-839F-400B-B077-1AA8CC5F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02C3B-011B-4846-BA59-1ADBB6D8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8C54E-D552-47BF-9650-59493BE5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9EB9E-B4ED-4919-8AD9-9C901700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C4430-86AF-4896-A703-343C878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7076-97A8-4096-B8BF-F9AFE07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803EE-DE8C-4A6F-95D4-D6F674F9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67FD3-C65F-497A-B0E7-42BC36B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06B65-9580-43B8-8B8F-124D9B6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3AAEC-905B-4BEF-9EE1-FB3740E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5DF13-6B88-4AC0-B733-A6B2D76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5D287-0E33-4A35-9105-70DBDFF3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CE55A-94D4-41F4-B835-3FAA4808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DF8896-F374-41E5-8DA6-C9E483DB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A6B13-D1F8-4915-9F8A-28A1267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FA163-35DE-48A3-8E60-712FA72C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B39-5D62-4AF3-B7C2-C19946F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BC857-DA4A-4C81-B63D-22884019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276C5-60F5-486D-9299-252EBC9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5E738-71AA-423B-A856-F140D5CD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B0C20-4231-4BDF-A84A-D45EDB0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E7ECB-A71E-4A02-83CB-55F03DE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AB967-DF30-4B5A-A115-F7CED64A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D974F-510E-4E21-9381-B661E760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CB482-95CD-49CD-94C2-B7FA8201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C4085-1FCB-47E3-BF1F-DF5C6846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FA04C3-C3CF-423B-9879-AD8F90C0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4D3F-B94D-43DD-AAB8-2005CE06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66F72-B411-4598-85B5-0EE6C651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0C717-A00E-4895-AA73-99544E8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51348-5555-4BB4-83E0-59B8F2F0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98E02-B091-466F-B689-C30F8E75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C1FD3-2270-4F07-BFA6-8FF304D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092BA-2DE6-43A3-A853-2E23015E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80B61-5A2A-4764-8E14-D754F3F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A78B9-0B7D-49A9-B293-E51FEC94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A5372-8D2B-4666-ACF5-F6E5ECCA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FCA9A-BAC9-41CE-B14D-985271AE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0C07-51BC-477D-BC1A-E2D5D687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DF2D7-8B38-4825-A30D-47C0A04C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E65BED-2C8A-4CC4-98D9-1B594B79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B738A9-8C88-4A2E-86FE-71BDD33D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4F7399-C8AC-48AB-9D1F-9EFD141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E3ADB5-A973-40F4-AD11-FFA107C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F615EB-D799-4D03-8B3F-DF8056A5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AE5D36-F7CD-400A-98E7-5001D80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20C8FD-4757-41CB-847E-A455D65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44078B-581D-4098-BA8B-9F09723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1DEC2D-4E98-41E8-B6B9-044B9F2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5DF2-FC9F-40F3-911D-2C108425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54F7C8-E36F-4AA5-9EC8-110273F5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3BEE58-B224-4B72-A4AC-AC0F568B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D41E04-ACDC-4F69-A9E2-D82E44D0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B52CC2-BB8E-4072-90CA-DC09613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17EFE-E7F8-40D3-8D85-1264D3D4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03F656-FE93-4638-A075-F76021B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6CB22-A79D-42BD-998C-4E8A4D4B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A7934-7DE9-4847-AC38-E8ED3CB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141720-052F-4699-BA74-CCBCEB5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467A39-928F-47F7-AD52-E4816381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A121-71EE-49D0-86B0-442AD4B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6C51AD-184A-4766-A48B-01BDD33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00D21-DE19-4ED9-8CF5-3CFF1DE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F37B00-5A6D-45B7-B686-BA06FE0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C40F39-38B3-4033-84E0-9D2077DA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4190D7-47B6-4A41-B3C6-E76B95C3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4AC5B9-87C1-4DBC-AB24-CA8790C5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392AF-6579-4EBD-A6D0-B8ECD1E8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00173-73CC-4E89-9062-A159CD85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9501F3-C25C-44CF-A16E-31721B6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009D40-BDFB-47E5-A5F8-4B439FE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CBD4-2C5D-43C3-93D7-799C5F4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74467-77ED-4BF9-A1A0-01FC2B44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6E1A60-D475-4BF0-8D3B-84784AB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1D1150-90B8-4324-AEA6-B40D091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2EFA2C-A24C-4601-8A79-305160C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C7EA2F-105A-468A-8B76-7214983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C3A41A-D065-4CEC-8A5B-0D5F6282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977BE5-63F8-4D06-A3B8-DA0ED846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CD96A2-3867-4A1F-85F4-9622FC14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05E296-5090-45FD-AA06-6E65BA40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3E46B1-AEB1-4F4F-AEC3-7107CB7A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F178-48F6-4BE2-A2D4-568779EA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27130F-AA4D-43AE-A89A-58082482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220DBB-391B-4D91-ADDA-4AAE0EF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4A35BF-83E3-4DE2-B532-6CAD1D6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037317-F658-4357-A2A8-FF69296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06CC5C-617C-497A-9560-C452F30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1304AB-FC47-48CA-B14D-8391B726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5A97A-0AFA-4D89-84F9-8FBE0A92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0C1D56-21BD-4FCD-9E17-7E4BD3EF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50F69D-4405-4194-BDF4-18EDEDB0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CF74-90A3-4DE8-A7E6-3D3069C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A8B-DD01-45C2-8B27-E39B3C2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244E-9A72-4791-A8A2-FA8AE8A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C895-48A6-4C9D-A8A6-F9BCD25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2C72-EE42-4A24-BD1A-0E46DCF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302E-05CD-4CF9-8730-EBA6EAF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AFEB-B0F0-4F52-8ACA-C44B78E4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81E0-025B-430B-8283-06ABC0B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E88E-4A7D-4BA4-A687-4E40E6D4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FF67-F769-4930-A15F-161323BE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F041-A7A0-44BD-BEA7-18BB042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978E-0B14-4464-B78D-74874CE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B19-33B5-43E5-A6BD-647920F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8689-F7F0-4088-A007-3E890574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4151-18BF-45DC-B816-DB6E20F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68EF-A843-46D1-81E5-7DDDC75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0B86-9D38-471E-93C5-E150B52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E2E4-40FC-44B4-BB70-FC8942A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72DC-0E3D-44A4-951A-1487DEE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D102-ABDE-46EA-9E54-BD246D4E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D8DA-810E-4C1F-A066-D9675C68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FB57-23FD-4F0E-911F-39515F82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05F0E-9E4E-4D1A-ABFC-C5BD312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4A5-9049-47A1-8C22-02BEA159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CC68-7076-4BF0-8042-43B15DD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7AFD-7466-46E7-844B-94FC9C84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FA60-D437-460F-8D64-F423FB25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BC2E-B0FE-472E-922D-64D52B9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4A69-6619-4C73-B34D-6925DD6A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9488-FC5B-41A9-86C4-1B01CB7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05D5-41E3-4F3F-BB75-5A54095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6401-C982-4DC7-8BEA-BC7C154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017B1-0A14-4924-8012-B7EEED92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567D-2B17-4435-B79F-C30D396E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06B-C351-41A7-976E-922A7E7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205A-2C96-442D-A905-6DFD6D19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F1BD-7599-4D7B-A8A2-ACE2344B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F8C4-CD69-44A3-838D-F237A32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F3AB-AF64-4019-8EB2-4A181AE1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7484-54A3-4D2C-8B5C-6459616A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0281-E802-4A08-AF49-12B4035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F1E4-B9BA-41BE-B166-23CE15A4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69DE-4C86-439A-8174-F1B25FD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565BC-9AB4-4AE9-BD2D-5BCA61E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0EADA-524B-487D-9553-A840951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2AD-7E16-41B1-8755-E7925C1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CEE7-359E-4E58-A8C2-5F4293A5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4003-0B70-4CF8-865C-3830AE77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F4FF-7D1B-4445-9340-7757A2A0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4400-3D5D-4384-89D2-7D1831E6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9524-21CD-46AC-802E-3734497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C7029-2E2D-46F6-86CD-8417A402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3D9E-1594-46B3-AA8A-92FE95D2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B2D0-8805-41E4-98BF-6441DCE4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0220-B5D8-407F-B3AE-7D155E2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72C28-5573-47E9-9A1C-0963CC6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32B-730B-4750-94D6-ECF1871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57E8-C5E4-4D46-B65F-15D4A42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4135C-A167-4260-A094-7FAE133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DF0A-B6C0-4F8F-88BA-50AE1976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B0F5-A48B-4A04-9C9D-F152FC12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B3722-501B-46B5-A894-5EDEBB99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22DA-B3CA-43EA-8E25-21274665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25C98-9755-465F-9EF1-394EA3CB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4FFC-1556-4337-8C93-90A2C532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167F2-666E-4346-A25B-67624FF1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B8C9-69C1-49C8-B0A4-FB39CC5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855-5584-4ECE-A3AC-08254E1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FDC00-E396-45DB-ABE8-07E3FEB9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8BB16-0836-48E0-AADD-2F0F19F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B2857-7E04-4376-B661-45A1C0E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41B20-2883-43CF-B59A-6F0B336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F52CB-4F76-47F7-B0AF-C261BD94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16FC-F4A9-4293-A488-EAFEB8D8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92FE-A0F8-4D7A-AA06-B393940C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05C0C-5BD7-43F2-897E-F2C876B7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18E75-5955-4158-8FE6-090D8CC8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F56B-4998-4753-BED2-AD7F26C5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C47-0F68-4599-8121-BCC4C1267C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4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4218-D5BF-4A4A-98EC-6192169D22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FB2-79F8-4C9E-8296-AA8B25F1ED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692-A58A-4387-80B6-8E7849288B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7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3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3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3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7CF7-2BA7-4286-98E4-C82E8912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44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4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4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6334-EED8-4763-A8E9-894C6CA9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30E-234E-4707-A689-2DBC5E04F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7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87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87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EC3-55CD-4089-A3C3-17ED3D8E29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2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C870-41EE-4963-9376-25C4D2B6FA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6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F04-6443-4A5E-A08C-697EC260CC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1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349D-730E-46F1-828A-C36C75F911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980-4258-4F59-A872-1804A520B7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3C3C-F21B-4F65-BB45-C7A7AF9EC7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09C8-0878-4F8B-90E1-75BD2C8E6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2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311-3570-45A2-AB1F-DBE545FE3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BF0-A552-4B48-A65D-642F92C464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6DF2-101C-442E-8241-5B2505CD53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0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7B89-3848-419D-B6E4-37105C1A6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5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3D5-C6F5-44EA-AD59-DC92475C4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8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8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0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FD3-8AB4-4F51-B60C-787939C7E5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6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6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8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8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9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9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9495-DDD7-4486-B510-3ACC09AC63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CCE5-9C7A-4CBB-933C-9A9F54443B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5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8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8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8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79B-C2BA-445D-BEBB-F13D692ACC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5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0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A1F-8BF1-4739-9499-A45E8A97D3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9.xml"/><Relationship Id="rId3" Type="http://schemas.openxmlformats.org/officeDocument/2006/relationships/image" Target="../media/image19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gif"/><Relationship Id="rId3" Type="http://schemas.openxmlformats.org/officeDocument/2006/relationships/image" Target="../media/image1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2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6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11.xml"/><Relationship Id="rId4" Type="http://schemas.openxmlformats.org/officeDocument/2006/relationships/slideLayout" Target="../slideLayouts/slideLayout26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3850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900"/>
                </a:solidFill>
                <a:latin typeface="Times New Roman"/>
              </a:rPr>
              <a:t>Môn học: Tin học lớp 6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1096920" y="3949200"/>
            <a:ext cx="68644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iáo viên giảng: B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ùi Thành Đượ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2055960" cy="17953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/>
          </p:nvPr>
        </p:nvSpPr>
        <p:spPr>
          <a:xfrm>
            <a:off x="762120" y="2819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hức năng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giúp tìm nhanh dãy kí tự trong văn bản và thay thế dãy kí tự vừa tìm được bằng một dãy kí tự khác (do các em quy định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ử dụng hộp thoại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Find and Replac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để thực hiệ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143000" y="1143000"/>
            <a:ext cx="6019920" cy="693360"/>
            <a:chOff x="1143000" y="1143000"/>
            <a:chExt cx="6019920" cy="693360"/>
          </a:xfrm>
        </p:grpSpPr>
        <p:sp>
          <p:nvSpPr>
            <p:cNvPr id="1380" name="">
              <a:hlinkClick r:id="rId1" action="ppaction://hlinksldjump"/>
            </p:cNvPr>
            <p:cNvSpPr/>
            <p:nvPr/>
          </p:nvSpPr>
          <p:spPr>
            <a:xfrm>
              <a:off x="1391760" y="1143000"/>
              <a:ext cx="5771160" cy="6933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2. Thay th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1143000" y="1199880"/>
              <a:ext cx="310680" cy="567720"/>
              <a:chOff x="1143000" y="1199880"/>
              <a:chExt cx="310680" cy="567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1143000" y="1199880"/>
                <a:ext cx="310680" cy="5677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160640" y="1231920"/>
                <a:ext cx="275040" cy="5029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176840" y="1261440"/>
                <a:ext cx="243000" cy="444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33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176840" y="1261440"/>
                <a:ext cx="243000" cy="4442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192680" y="1290600"/>
                <a:ext cx="210960" cy="385920"/>
              </a:xfrm>
              <a:prstGeom prst="ellipse">
                <a:avLst/>
              </a:prstGeom>
              <a:gradFill rotWithShape="0">
                <a:gsLst>
                  <a:gs pos="0">
                    <a:srgbClr val="001b36"/>
                  </a:gs>
                  <a:gs pos="50000">
                    <a:srgbClr val="003366"/>
                  </a:gs>
                  <a:gs pos="100000">
                    <a:srgbClr val="001b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192680" y="1290600"/>
                <a:ext cx="210960" cy="3859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8" name=""/>
          <p:cNvGrpSpPr/>
          <p:nvPr/>
        </p:nvGrpSpPr>
        <p:grpSpPr>
          <a:xfrm>
            <a:off x="0" y="2666880"/>
            <a:ext cx="533160" cy="609840"/>
            <a:chOff x="0" y="2666880"/>
            <a:chExt cx="533160" cy="609840"/>
          </a:xfrm>
        </p:grpSpPr>
        <p:sp>
          <p:nvSpPr>
            <p:cNvPr id="1389" name=""/>
            <p:cNvSpPr/>
            <p:nvPr/>
          </p:nvSpPr>
          <p:spPr>
            <a:xfrm>
              <a:off x="163080" y="2666880"/>
              <a:ext cx="21024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0" y="279540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0" y="295488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60200" y="2970360"/>
              <a:ext cx="209880" cy="3063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7040" y="295488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57040" y="279180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75680" y="2891880"/>
              <a:ext cx="18468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92a7bd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83996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/>
          <p:cNvPicPr/>
          <p:nvPr/>
        </p:nvPicPr>
        <p:blipFill>
          <a:blip r:embed="rId3"/>
          <a:stretch/>
        </p:blipFill>
        <p:spPr>
          <a:xfrm>
            <a:off x="762120" y="5197320"/>
            <a:ext cx="3809880" cy="16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8" name=""/>
          <p:cNvGrpSpPr/>
          <p:nvPr/>
        </p:nvGrpSpPr>
        <p:grpSpPr>
          <a:xfrm>
            <a:off x="152280" y="762120"/>
            <a:ext cx="1447920" cy="2895480"/>
            <a:chOff x="152280" y="762120"/>
            <a:chExt cx="1447920" cy="2895480"/>
          </a:xfrm>
        </p:grpSpPr>
        <p:sp>
          <p:nvSpPr>
            <p:cNvPr id="1399" name=""/>
            <p:cNvSpPr/>
            <p:nvPr/>
          </p:nvSpPr>
          <p:spPr>
            <a:xfrm>
              <a:off x="152280" y="982800"/>
              <a:ext cx="1443600" cy="2050200"/>
            </a:xfrm>
            <a:custGeom>
              <a:avLst/>
              <a:gdLst>
                <a:gd name="textAreaLeft" fmla="*/ 73800 w 1443600"/>
                <a:gd name="textAreaRight" fmla="*/ 1369800 w 1443600"/>
                <a:gd name="textAreaTop" fmla="*/ 73800 h 2050200"/>
                <a:gd name="textAreaBottom" fmla="*/ 1976400 h 2050200"/>
              </a:gdLst>
              <a:ahLst/>
              <a:rect l="textAreaLeft" t="textAreaTop" r="textAreaRight" b="textAreaBottom"/>
              <a:pathLst>
                <a:path w="21600" h="30674">
                  <a:moveTo>
                    <a:pt x="3782" y="0"/>
                  </a:moveTo>
                  <a:arcTo wR="3782" hR="3782" stAng="16200000" swAng="-5400000"/>
                  <a:lnTo>
                    <a:pt x="0" y="26892"/>
                  </a:lnTo>
                  <a:arcTo wR="3782" hR="3782" stAng="10800000" swAng="-5400000"/>
                  <a:lnTo>
                    <a:pt x="17818" y="3067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74600" y="988560"/>
              <a:ext cx="1400040" cy="2011320"/>
            </a:xfrm>
            <a:custGeom>
              <a:avLst/>
              <a:gdLst>
                <a:gd name="textAreaLeft" fmla="*/ 68040 w 1400040"/>
                <a:gd name="textAreaRight" fmla="*/ 1332000 w 1400040"/>
                <a:gd name="textAreaTop" fmla="*/ 68040 h 2011320"/>
                <a:gd name="textAreaBottom" fmla="*/ 1943280 h 2011320"/>
              </a:gdLst>
              <a:ahLst/>
              <a:rect l="textAreaLeft" t="textAreaTop" r="textAreaRight" b="textAreaBottom"/>
              <a:pathLst>
                <a:path w="21600" h="31028">
                  <a:moveTo>
                    <a:pt x="3600" y="0"/>
                  </a:moveTo>
                  <a:arcTo wR="3600" hR="3600" stAng="16200000" swAng="-5400000"/>
                  <a:lnTo>
                    <a:pt x="0" y="27428"/>
                  </a:lnTo>
                  <a:arcTo wR="3600" hR="3600" stAng="10800000" swAng="-5400000"/>
                  <a:lnTo>
                    <a:pt x="18000" y="310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86120" y="2469240"/>
              <a:ext cx="1380960" cy="50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120" y="1004400"/>
              <a:ext cx="138096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6600" y="3033360"/>
              <a:ext cx="1443600" cy="62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86120" y="3050280"/>
              <a:ext cx="1380960" cy="55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648720" y="762120"/>
              <a:ext cx="428760" cy="461160"/>
              <a:chOff x="648720" y="762120"/>
              <a:chExt cx="428760" cy="461160"/>
            </a:xfrm>
          </p:grpSpPr>
          <p:sp>
            <p:nvSpPr>
              <p:cNvPr id="1406" name=""/>
              <p:cNvSpPr/>
              <p:nvPr/>
            </p:nvSpPr>
            <p:spPr>
              <a:xfrm>
                <a:off x="648720" y="762120"/>
                <a:ext cx="428760" cy="461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53040" y="765720"/>
                <a:ext cx="414720" cy="44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58080" y="768240"/>
                <a:ext cx="405000" cy="435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62760" y="772560"/>
                <a:ext cx="385200" cy="406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5080" y="783360"/>
                <a:ext cx="342000" cy="330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685800" y="829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03040" y="1307520"/>
              <a:ext cx="13737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ào Edit chọn Fin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ộp hoại Find and Replace xuất hiện. Chọn Replac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0" y="152280"/>
            <a:ext cx="3962520" cy="609840"/>
            <a:chOff x="0" y="152280"/>
            <a:chExt cx="3962520" cy="609840"/>
          </a:xfrm>
        </p:grpSpPr>
        <p:grpSp>
          <p:nvGrpSpPr>
            <p:cNvPr id="1414" name=""/>
            <p:cNvGrpSpPr/>
            <p:nvPr/>
          </p:nvGrpSpPr>
          <p:grpSpPr>
            <a:xfrm>
              <a:off x="0" y="152280"/>
              <a:ext cx="533160" cy="609840"/>
              <a:chOff x="0" y="152280"/>
              <a:chExt cx="533160" cy="609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163080" y="1522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2808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44028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60200" y="455760"/>
                <a:ext cx="209880" cy="30636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57040" y="44028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57040" y="2772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75680" y="3772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4f4"/>
                  </a:gs>
                  <a:gs pos="100000">
                    <a:srgbClr val="7e9c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685800" y="152280"/>
              <a:ext cx="3276720" cy="533520"/>
              <a:chOff x="685800" y="152280"/>
              <a:chExt cx="3276720" cy="533520"/>
            </a:xfrm>
          </p:grpSpPr>
          <p:sp>
            <p:nvSpPr>
              <p:cNvPr id="1423" name=""/>
              <p:cNvSpPr/>
              <p:nvPr/>
            </p:nvSpPr>
            <p:spPr>
              <a:xfrm>
                <a:off x="685800" y="152280"/>
                <a:ext cx="3276720" cy="5335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38080" y="152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Các bước thực hiệ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1219320" y="3200400"/>
            <a:ext cx="1599840" cy="3504960"/>
            <a:chOff x="1219320" y="3200400"/>
            <a:chExt cx="1599840" cy="3504960"/>
          </a:xfrm>
        </p:grpSpPr>
        <p:grpSp>
          <p:nvGrpSpPr>
            <p:cNvPr id="1426" name=""/>
            <p:cNvGrpSpPr/>
            <p:nvPr/>
          </p:nvGrpSpPr>
          <p:grpSpPr>
            <a:xfrm>
              <a:off x="1219320" y="3200400"/>
              <a:ext cx="1599840" cy="3504960"/>
              <a:chOff x="1219320" y="3200400"/>
              <a:chExt cx="1599840" cy="3504960"/>
            </a:xfrm>
          </p:grpSpPr>
          <p:sp>
            <p:nvSpPr>
              <p:cNvPr id="1427" name=""/>
              <p:cNvSpPr/>
              <p:nvPr/>
            </p:nvSpPr>
            <p:spPr>
              <a:xfrm>
                <a:off x="1223640" y="3467520"/>
                <a:ext cx="1595520" cy="2482200"/>
              </a:xfrm>
              <a:custGeom>
                <a:avLst/>
                <a:gdLst>
                  <a:gd name="textAreaLeft" fmla="*/ 81720 w 1595520"/>
                  <a:gd name="textAreaRight" fmla="*/ 1513800 w 1595520"/>
                  <a:gd name="textAreaTop" fmla="*/ 81720 h 2482200"/>
                  <a:gd name="textAreaBottom" fmla="*/ 2400480 h 2482200"/>
                </a:gdLst>
                <a:ahLst/>
                <a:rect l="textAreaLeft" t="textAreaTop" r="textAreaRight" b="textAreaBottom"/>
                <a:pathLst>
                  <a:path w="21600" h="33601">
                    <a:moveTo>
                      <a:pt x="3782" y="0"/>
                    </a:moveTo>
                    <a:arcTo wR="3782" hR="3782" stAng="16200000" swAng="-5400000"/>
                    <a:lnTo>
                      <a:pt x="0" y="29819"/>
                    </a:lnTo>
                    <a:arcTo wR="3782" hR="3782" stAng="10800000" swAng="-5400000"/>
                    <a:lnTo>
                      <a:pt x="17818" y="33601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248480" y="3474720"/>
                <a:ext cx="1547640" cy="2434680"/>
              </a:xfrm>
              <a:custGeom>
                <a:avLst/>
                <a:gdLst>
                  <a:gd name="textAreaLeft" fmla="*/ 75240 w 1547640"/>
                  <a:gd name="textAreaRight" fmla="*/ 1472400 w 1547640"/>
                  <a:gd name="textAreaTop" fmla="*/ 75240 h 2434680"/>
                  <a:gd name="textAreaBottom" fmla="*/ 2359440 h 2434680"/>
                </a:gdLst>
                <a:ahLst/>
                <a:rect l="textAreaLeft" t="textAreaTop" r="textAreaRight" b="textAreaBottom"/>
                <a:pathLst>
                  <a:path w="21600" h="33977">
                    <a:moveTo>
                      <a:pt x="3600" y="0"/>
                    </a:moveTo>
                    <a:arcTo wR="3600" hR="3600" stAng="16200000" swAng="-5400000"/>
                    <a:lnTo>
                      <a:pt x="0" y="30377"/>
                    </a:lnTo>
                    <a:arcTo wR="3600" hR="3600" stAng="10800000" swAng="-5400000"/>
                    <a:lnTo>
                      <a:pt x="18000" y="33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261080" y="5267160"/>
                <a:ext cx="152640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261080" y="3493800"/>
                <a:ext cx="1526400" cy="61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1" name=""/>
              <p:cNvGrpSpPr/>
              <p:nvPr/>
            </p:nvGrpSpPr>
            <p:grpSpPr>
              <a:xfrm>
                <a:off x="1772640" y="3200400"/>
                <a:ext cx="474120" cy="558360"/>
                <a:chOff x="1772640" y="3200400"/>
                <a:chExt cx="474120" cy="5583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1772640" y="3200400"/>
                  <a:ext cx="474120" cy="558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1777320" y="3204720"/>
                  <a:ext cx="458640" cy="5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1783080" y="3207960"/>
                  <a:ext cx="447840" cy="52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1788120" y="3213000"/>
                  <a:ext cx="425880" cy="49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1812960" y="3226320"/>
                  <a:ext cx="378360" cy="4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1830600" y="3280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279800" y="3862080"/>
                <a:ext cx="15170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219320" y="5949720"/>
                <a:ext cx="1595160" cy="75564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51720" y="5970600"/>
                <a:ext cx="1526400" cy="671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295280" y="3886200"/>
              <a:ext cx="1447920" cy="18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õ nội du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ần thay thế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ào ô F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at. Nộ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ung t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ế và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place wit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029200" y="3200400"/>
            <a:ext cx="1599840" cy="3504960"/>
            <a:chOff x="5029200" y="3200400"/>
            <a:chExt cx="1599840" cy="3504960"/>
          </a:xfrm>
        </p:grpSpPr>
        <p:sp>
          <p:nvSpPr>
            <p:cNvPr id="1443" name=""/>
            <p:cNvSpPr/>
            <p:nvPr/>
          </p:nvSpPr>
          <p:spPr>
            <a:xfrm>
              <a:off x="5029200" y="3467520"/>
              <a:ext cx="1595160" cy="2482200"/>
            </a:xfrm>
            <a:custGeom>
              <a:avLst/>
              <a:gdLst>
                <a:gd name="textAreaLeft" fmla="*/ 81720 w 1595160"/>
                <a:gd name="textAreaRight" fmla="*/ 1513440 w 1595160"/>
                <a:gd name="textAreaTop" fmla="*/ 81720 h 2482200"/>
                <a:gd name="textAreaBottom" fmla="*/ 2400480 h 2482200"/>
              </a:gdLst>
              <a:ahLst/>
              <a:rect l="textAreaLeft" t="textAreaTop" r="textAreaRight" b="textAreaBottom"/>
              <a:pathLst>
                <a:path w="21600" h="33609">
                  <a:moveTo>
                    <a:pt x="3782" y="0"/>
                  </a:moveTo>
                  <a:arcTo wR="3782" hR="3782" stAng="16200000" swAng="-5400000"/>
                  <a:lnTo>
                    <a:pt x="0" y="29827"/>
                  </a:lnTo>
                  <a:arcTo wR="3782" hR="3782" stAng="10800000" swAng="-5400000"/>
                  <a:lnTo>
                    <a:pt x="17818" y="336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53680" y="3474720"/>
              <a:ext cx="1547280" cy="2434680"/>
            </a:xfrm>
            <a:custGeom>
              <a:avLst/>
              <a:gdLst>
                <a:gd name="textAreaLeft" fmla="*/ 75240 w 1547280"/>
                <a:gd name="textAreaRight" fmla="*/ 1472040 w 1547280"/>
                <a:gd name="textAreaTop" fmla="*/ 75240 h 2434680"/>
                <a:gd name="textAreaBottom" fmla="*/ 2359440 h 2434680"/>
              </a:gdLst>
              <a:ahLst/>
              <a:rect l="textAreaLeft" t="textAreaTop" r="textAreaRight" b="textAreaBottom"/>
              <a:pathLst>
                <a:path w="21600" h="33985">
                  <a:moveTo>
                    <a:pt x="3600" y="0"/>
                  </a:moveTo>
                  <a:arcTo wR="3600" hR="3600" stAng="16200000" swAng="-5400000"/>
                  <a:lnTo>
                    <a:pt x="0" y="30385"/>
                  </a:lnTo>
                  <a:arcTo wR="3600" hR="3600" stAng="10800000" swAng="-5400000"/>
                  <a:lnTo>
                    <a:pt x="18000" y="33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066280" y="5267160"/>
              <a:ext cx="152640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66280" y="3493800"/>
              <a:ext cx="1526400" cy="61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033880" y="5949720"/>
              <a:ext cx="1595160" cy="755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66280" y="5970600"/>
              <a:ext cx="1526400" cy="671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9" name=""/>
            <p:cNvGrpSpPr/>
            <p:nvPr/>
          </p:nvGrpSpPr>
          <p:grpSpPr>
            <a:xfrm>
              <a:off x="5578200" y="3200400"/>
              <a:ext cx="474120" cy="558360"/>
              <a:chOff x="5578200" y="3200400"/>
              <a:chExt cx="474120" cy="558360"/>
            </a:xfrm>
          </p:grpSpPr>
          <p:sp>
            <p:nvSpPr>
              <p:cNvPr id="1450" name=""/>
              <p:cNvSpPr/>
              <p:nvPr/>
            </p:nvSpPr>
            <p:spPr>
              <a:xfrm>
                <a:off x="5578200" y="3200400"/>
                <a:ext cx="474120" cy="558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582880" y="3204720"/>
                <a:ext cx="458640" cy="540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588640" y="3207960"/>
                <a:ext cx="447840" cy="52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593680" y="3213000"/>
                <a:ext cx="425880" cy="4921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618520" y="3226320"/>
                <a:ext cx="378360" cy="40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5" name=""/>
            <p:cNvSpPr/>
            <p:nvPr/>
          </p:nvSpPr>
          <p:spPr>
            <a:xfrm>
              <a:off x="5636160" y="3280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83920" y="3862080"/>
              <a:ext cx="1518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ếu muố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oát nhấ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ào Canc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124080" y="3200400"/>
            <a:ext cx="1599840" cy="3504960"/>
            <a:chOff x="3124080" y="3200400"/>
            <a:chExt cx="1599840" cy="3504960"/>
          </a:xfrm>
        </p:grpSpPr>
        <p:sp>
          <p:nvSpPr>
            <p:cNvPr id="1458" name=""/>
            <p:cNvSpPr/>
            <p:nvPr/>
          </p:nvSpPr>
          <p:spPr>
            <a:xfrm>
              <a:off x="3124080" y="3467520"/>
              <a:ext cx="1597680" cy="2482200"/>
            </a:xfrm>
            <a:custGeom>
              <a:avLst/>
              <a:gdLst>
                <a:gd name="textAreaLeft" fmla="*/ 81720 w 1597680"/>
                <a:gd name="textAreaRight" fmla="*/ 1515960 w 1597680"/>
                <a:gd name="textAreaTop" fmla="*/ 81720 h 2482200"/>
                <a:gd name="textAreaBottom" fmla="*/ 2400480 h 2482200"/>
              </a:gdLst>
              <a:ahLst/>
              <a:rect l="textAreaLeft" t="textAreaTop" r="textAreaRight" b="textAreaBottom"/>
              <a:pathLst>
                <a:path w="21600" h="33556">
                  <a:moveTo>
                    <a:pt x="3782" y="0"/>
                  </a:moveTo>
                  <a:arcTo wR="3782" hR="3782" stAng="16200000" swAng="-5400000"/>
                  <a:lnTo>
                    <a:pt x="0" y="29774"/>
                  </a:lnTo>
                  <a:arcTo wR="3782" hR="3782" stAng="10800000" swAng="-5400000"/>
                  <a:lnTo>
                    <a:pt x="17818" y="3355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148200" y="3474720"/>
              <a:ext cx="1549800" cy="2434680"/>
            </a:xfrm>
            <a:custGeom>
              <a:avLst/>
              <a:gdLst>
                <a:gd name="textAreaLeft" fmla="*/ 75600 w 1549800"/>
                <a:gd name="textAreaRight" fmla="*/ 1474200 w 1549800"/>
                <a:gd name="textAreaTop" fmla="*/ 75600 h 2434680"/>
                <a:gd name="textAreaBottom" fmla="*/ 2359080 h 2434680"/>
              </a:gdLst>
              <a:ahLst/>
              <a:rect l="textAreaLeft" t="textAreaTop" r="textAreaRight" b="textAreaBottom"/>
              <a:pathLst>
                <a:path w="21600" h="33930">
                  <a:moveTo>
                    <a:pt x="3600" y="0"/>
                  </a:moveTo>
                  <a:arcTo wR="3600" hR="3600" stAng="16200000" swAng="-5400000"/>
                  <a:lnTo>
                    <a:pt x="0" y="30330"/>
                  </a:lnTo>
                  <a:arcTo wR="3600" hR="3600" stAng="10800000" swAng="-5400000"/>
                  <a:lnTo>
                    <a:pt x="18000" y="339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161520" y="5267160"/>
              <a:ext cx="152856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161520" y="3493800"/>
              <a:ext cx="1528560" cy="61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73800" y="3200400"/>
              <a:ext cx="474840" cy="558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78120" y="3204360"/>
              <a:ext cx="459360" cy="5403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684240" y="3207240"/>
              <a:ext cx="448560" cy="528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88920" y="3212640"/>
              <a:ext cx="426600" cy="492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714840" y="3226320"/>
              <a:ext cx="378720" cy="399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733920" y="3280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78800" y="3862080"/>
              <a:ext cx="1519200" cy="15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áy và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nd Nex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để tìm. Hoặ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há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ào Repla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để thay thế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25880" y="5949720"/>
              <a:ext cx="1598040" cy="755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59000" y="5970600"/>
              <a:ext cx="1528560" cy="671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267080"/>
            <a:ext cx="914400" cy="122400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6934320" y="4343400"/>
            <a:ext cx="1981080" cy="1188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Nháy nút Replace all để thay thế tất cả các cụm từ tìm được bằng các cụm từ thay th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6705720" y="3048120"/>
            <a:ext cx="2438280" cy="1074600"/>
            <a:chOff x="6705720" y="3048120"/>
            <a:chExt cx="2438280" cy="1074600"/>
          </a:xfrm>
        </p:grpSpPr>
        <p:graphicFrame>
          <p:nvGraphicFramePr>
            <p:cNvPr id="1474" name=""/>
            <p:cNvGraphicFramePr/>
            <p:nvPr/>
          </p:nvGraphicFramePr>
          <p:xfrm>
            <a:off x="6705720" y="3276720"/>
            <a:ext cx="1066680" cy="846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05720" y="3276720"/>
                      <a:ext cx="10666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6" name=""/>
            <p:cNvSpPr/>
            <p:nvPr/>
          </p:nvSpPr>
          <p:spPr>
            <a:xfrm>
              <a:off x="7772400" y="3048120"/>
              <a:ext cx="1371600" cy="83808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077320" y="32767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u 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209680" y="838080"/>
            <a:ext cx="5638680" cy="2057400"/>
            <a:chOff x="2209680" y="838080"/>
            <a:chExt cx="5638680" cy="2057400"/>
          </a:xfrm>
        </p:grpSpPr>
        <p:pic>
          <p:nvPicPr>
            <p:cNvPr id="1479" name="" descr=""/>
            <p:cNvPicPr/>
            <p:nvPr/>
          </p:nvPicPr>
          <p:blipFill>
            <a:blip r:embed="rId6"/>
            <a:stretch/>
          </p:blipFill>
          <p:spPr>
            <a:xfrm>
              <a:off x="2209680" y="838080"/>
              <a:ext cx="5638680" cy="205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0" name=""/>
            <p:cNvGrpSpPr/>
            <p:nvPr/>
          </p:nvGrpSpPr>
          <p:grpSpPr>
            <a:xfrm>
              <a:off x="3962160" y="1066680"/>
              <a:ext cx="1905120" cy="533520"/>
              <a:chOff x="3962160" y="1066680"/>
              <a:chExt cx="1905120" cy="533520"/>
            </a:xfrm>
          </p:grpSpPr>
          <p:sp>
            <p:nvSpPr>
              <p:cNvPr id="1481" name=""/>
              <p:cNvSpPr/>
              <p:nvPr/>
            </p:nvSpPr>
            <p:spPr>
              <a:xfrm>
                <a:off x="3962160" y="1066680"/>
                <a:ext cx="1905120" cy="2764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õ nội dung cần thay thế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114440" y="1371600"/>
                <a:ext cx="0" cy="2286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3" name=""/>
            <p:cNvSpPr/>
            <p:nvPr/>
          </p:nvSpPr>
          <p:spPr>
            <a:xfrm>
              <a:off x="4343040" y="1600200"/>
              <a:ext cx="1676520" cy="27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õ nội dung  thay thế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4419720" y="1981080"/>
            <a:ext cx="0" cy="2286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>
            <a:hlinkClick r:id="rId7" action="ppaction://hlinksldjump"/>
          </p:cNvPr>
          <p:cNvSpPr/>
          <p:nvPr/>
        </p:nvSpPr>
        <p:spPr>
          <a:xfrm>
            <a:off x="7391520" y="6095880"/>
            <a:ext cx="106668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8" action="ppaction://hlinksldjump"/>
              </a:rPr>
              <a:t>Ví d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1600" cy="5643720"/>
          </a:xfrm>
          <a:prstGeom prst="rect">
            <a:avLst/>
          </a:prstGeom>
          <a:ln w="0">
            <a:noFill/>
          </a:ln>
        </p:spPr>
      </p:pic>
      <p:grpSp>
        <p:nvGrpSpPr>
          <p:cNvPr id="1487" name=""/>
          <p:cNvGrpSpPr/>
          <p:nvPr/>
        </p:nvGrpSpPr>
        <p:grpSpPr>
          <a:xfrm>
            <a:off x="5410080" y="152280"/>
            <a:ext cx="3886200" cy="6477120"/>
            <a:chOff x="5410080" y="152280"/>
            <a:chExt cx="3886200" cy="6477120"/>
          </a:xfrm>
        </p:grpSpPr>
        <p:sp>
          <p:nvSpPr>
            <p:cNvPr id="1488" name=""/>
            <p:cNvSpPr/>
            <p:nvPr/>
          </p:nvSpPr>
          <p:spPr>
            <a:xfrm>
              <a:off x="5410080" y="152280"/>
              <a:ext cx="3886200" cy="1447920"/>
            </a:xfrm>
            <a:prstGeom prst="cloudCallout">
              <a:avLst>
                <a:gd name="adj1" fmla="val -15810"/>
                <a:gd name="adj2" fmla="val 284208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9" name="" descr=""/>
            <p:cNvPicPr/>
            <p:nvPr/>
          </p:nvPicPr>
          <p:blipFill>
            <a:blip r:embed="rId2"/>
            <a:stretch/>
          </p:blipFill>
          <p:spPr>
            <a:xfrm>
              <a:off x="5867280" y="4952880"/>
              <a:ext cx="13366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"/>
            <p:cNvSpPr/>
            <p:nvPr/>
          </p:nvSpPr>
          <p:spPr>
            <a:xfrm>
              <a:off x="5867280" y="4572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Times New Roman"/>
                </a:rPr>
                <a:t>Hoan hô mình đã sửa được tất cả các từ rồi. Cảm ơn các bạn nhiều nh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1" name="" descr=""/>
          <p:cNvPicPr/>
          <p:nvPr/>
        </p:nvPicPr>
        <p:blipFill>
          <a:blip r:embed="rId3"/>
          <a:stretch/>
        </p:blipFill>
        <p:spPr>
          <a:xfrm>
            <a:off x="7583400" y="5105520"/>
            <a:ext cx="1560600" cy="175248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4"/>
          <a:stretch/>
        </p:blipFill>
        <p:spPr>
          <a:xfrm>
            <a:off x="0" y="579132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Hộp thoại Find and Replace ngoài trang Find và trang Replace còn có trang Go 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762120" y="762120"/>
            <a:ext cx="3809880" cy="761400"/>
            <a:chOff x="762120" y="762120"/>
            <a:chExt cx="3809880" cy="761400"/>
          </a:xfrm>
        </p:grpSpPr>
        <p:sp>
          <p:nvSpPr>
            <p:cNvPr id="1495" name="">
              <a:hlinkClick r:id="rId1" action="ppaction://hlinksldjump"/>
            </p:cNvPr>
            <p:cNvSpPr/>
            <p:nvPr/>
          </p:nvSpPr>
          <p:spPr>
            <a:xfrm>
              <a:off x="1008000" y="762120"/>
              <a:ext cx="3564000" cy="761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66"/>
                  </a:solidFill>
                  <a:latin typeface="Times New Roman"/>
                </a:rPr>
                <a:t>* Mở rộ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"/>
            <p:cNvGrpSpPr/>
            <p:nvPr/>
          </p:nvGrpSpPr>
          <p:grpSpPr>
            <a:xfrm>
              <a:off x="762120" y="845640"/>
              <a:ext cx="307080" cy="570960"/>
              <a:chOff x="762120" y="845640"/>
              <a:chExt cx="307080" cy="570960"/>
            </a:xfrm>
          </p:grpSpPr>
          <p:sp>
            <p:nvSpPr>
              <p:cNvPr id="1497" name=""/>
              <p:cNvSpPr/>
              <p:nvPr/>
            </p:nvSpPr>
            <p:spPr>
              <a:xfrm>
                <a:off x="762120" y="845640"/>
                <a:ext cx="307080" cy="5709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79400" y="877680"/>
                <a:ext cx="272160" cy="50544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5600" y="907560"/>
                <a:ext cx="240120" cy="446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5600" y="907560"/>
                <a:ext cx="240120" cy="44676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11440" y="937080"/>
                <a:ext cx="208440" cy="388080"/>
              </a:xfrm>
              <a:prstGeom prst="ellipse">
                <a:avLst/>
              </a:prstGeom>
              <a:gradFill rotWithShape="0">
                <a:gsLst>
                  <a:gs pos="0">
                    <a:srgbClr val="526d00"/>
                  </a:gs>
                  <a:gs pos="50000">
                    <a:srgbClr val="99cc00"/>
                  </a:gs>
                  <a:gs pos="100000">
                    <a:srgbClr val="526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11440" y="937080"/>
                <a:ext cx="208440" cy="38808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3" name="" descr=""/>
          <p:cNvPicPr/>
          <p:nvPr/>
        </p:nvPicPr>
        <p:blipFill>
          <a:blip r:embed="rId2"/>
          <a:stretch/>
        </p:blipFill>
        <p:spPr>
          <a:xfrm>
            <a:off x="0" y="5197320"/>
            <a:ext cx="3809880" cy="166068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1660680"/>
          </a:xfrm>
          <a:prstGeom prst="rect">
            <a:avLst/>
          </a:prstGeom>
          <a:ln w="0">
            <a:noFill/>
          </a:ln>
        </p:spPr>
      </p:pic>
      <p:grpSp>
        <p:nvGrpSpPr>
          <p:cNvPr id="1505" name=""/>
          <p:cNvGrpSpPr/>
          <p:nvPr/>
        </p:nvGrpSpPr>
        <p:grpSpPr>
          <a:xfrm>
            <a:off x="1981080" y="3200400"/>
            <a:ext cx="5105520" cy="2381400"/>
            <a:chOff x="1981080" y="3200400"/>
            <a:chExt cx="5105520" cy="2381400"/>
          </a:xfrm>
        </p:grpSpPr>
        <p:pic>
          <p:nvPicPr>
            <p:cNvPr id="1506" name="" descr=""/>
            <p:cNvPicPr/>
            <p:nvPr/>
          </p:nvPicPr>
          <p:blipFill>
            <a:blip r:embed="rId4"/>
            <a:stretch/>
          </p:blipFill>
          <p:spPr>
            <a:xfrm>
              <a:off x="1981080" y="3581280"/>
              <a:ext cx="510552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5486400" y="3200400"/>
              <a:ext cx="1523880" cy="380880"/>
            </a:xfrm>
            <a:solidFill>
              <a:srgbClr val="97cdcc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õ vị trí cần tì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8" name="" descr=""/>
          <p:cNvPicPr/>
          <p:nvPr/>
        </p:nvPicPr>
        <p:blipFill>
          <a:blip r:embed="rId5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9" name=""/>
          <p:cNvGrpSpPr/>
          <p:nvPr/>
        </p:nvGrpSpPr>
        <p:grpSpPr>
          <a:xfrm>
            <a:off x="457200" y="1981080"/>
            <a:ext cx="533160" cy="609840"/>
            <a:chOff x="457200" y="1981080"/>
            <a:chExt cx="533160" cy="609840"/>
          </a:xfrm>
        </p:grpSpPr>
        <p:sp>
          <p:nvSpPr>
            <p:cNvPr id="1510" name=""/>
            <p:cNvSpPr/>
            <p:nvPr/>
          </p:nvSpPr>
          <p:spPr>
            <a:xfrm>
              <a:off x="620280" y="1981080"/>
              <a:ext cx="21024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57200" y="210960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7200" y="226908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17400" y="2284560"/>
              <a:ext cx="209880" cy="3063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4240" y="226908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4240" y="210600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32880" y="2206080"/>
              <a:ext cx="18468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66"/>
                </a:solidFill>
                <a:uFillTx/>
                <a:latin typeface="Times New Roman"/>
              </a:rPr>
              <a:t>Chức năng</a:t>
            </a:r>
            <a:r>
              <a:rPr b="0" lang="en-US" sz="3200" spc="-1" strike="noStrike">
                <a:solidFill>
                  <a:srgbClr val="336666"/>
                </a:solidFill>
                <a:latin typeface="Times New Roman"/>
              </a:rPr>
              <a:t>: Đưa con trỏ đến vị trí cần tìm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74560" y="2190600"/>
            <a:ext cx="676908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í d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Đưa con trỏ đến trang văn bản thứ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ực hiện các bước sa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ước 1: Vào hộp thoại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Find and Repla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ước 2: Ở ô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Go 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what chọ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pa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ước 3: Ở ô 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Enter page numb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gõ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ước 4: Nháy vào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Go 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Kết qu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Con trỏ sẽ ở vị trí đầu dòng đầu tiên của trang văn bản thứ 5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ếu muốn kết thúc chọ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lo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457200" y="1981080"/>
            <a:ext cx="533160" cy="609840"/>
            <a:chOff x="457200" y="1981080"/>
            <a:chExt cx="533160" cy="609840"/>
          </a:xfrm>
        </p:grpSpPr>
        <p:sp>
          <p:nvSpPr>
            <p:cNvPr id="1520" name=""/>
            <p:cNvSpPr/>
            <p:nvPr/>
          </p:nvSpPr>
          <p:spPr>
            <a:xfrm>
              <a:off x="620280" y="1981080"/>
              <a:ext cx="21024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57200" y="210960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7200" y="226908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7400" y="2284560"/>
              <a:ext cx="209880" cy="3063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14240" y="226908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14240" y="210600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32880" y="2206080"/>
              <a:ext cx="18468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33520" y="762120"/>
            <a:ext cx="533160" cy="609480"/>
            <a:chOff x="533520" y="762120"/>
            <a:chExt cx="533160" cy="609480"/>
          </a:xfrm>
        </p:grpSpPr>
        <p:sp>
          <p:nvSpPr>
            <p:cNvPr id="1528" name=""/>
            <p:cNvSpPr/>
            <p:nvPr/>
          </p:nvSpPr>
          <p:spPr>
            <a:xfrm>
              <a:off x="696240" y="762120"/>
              <a:ext cx="20988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3520" y="89064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33520" y="104976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93720" y="1065600"/>
              <a:ext cx="209880" cy="30600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90560" y="104976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90560" y="88704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09200" y="987120"/>
              <a:ext cx="18468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d2e89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685800" y="1905120"/>
            <a:ext cx="8001000" cy="0"/>
          </a:xfrm>
          <a:prstGeom prst="line">
            <a:avLst/>
          </a:prstGeom>
          <a:ln w="38160">
            <a:solidFill>
              <a:srgbClr val="cc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7583400" y="5105520"/>
            <a:ext cx="1560600" cy="17524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14367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ủng cố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Làm thế nào để vào hộp thoại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Find and Replace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Cách 1: Vào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Edit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chọn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Find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Cách 2: Nhấn tổ hợp phím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Ctrl+F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Sự khác nhau giữa lệnh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Find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và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Find and Replace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Lệnh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Find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: Chỉ có thể tìm phần văn bả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Lênh </a:t>
            </a:r>
            <a:r>
              <a:rPr b="1" i="1" lang="en-US" sz="3000" spc="-1" strike="noStrike" u="sng">
                <a:solidFill>
                  <a:srgbClr val="00007d"/>
                </a:solidFill>
                <a:uFillTx/>
                <a:latin typeface="Times New Roman"/>
              </a:rPr>
              <a:t>Find and Replace</a:t>
            </a:r>
            <a:r>
              <a:rPr b="0" lang="en-US" sz="3000" spc="-1" strike="noStrike">
                <a:solidFill>
                  <a:srgbClr val="00007d"/>
                </a:solidFill>
                <a:latin typeface="Times New Roman"/>
              </a:rPr>
              <a:t>: Có thể tìm phần văn bản và có thể sửa chữa phần văn bản đ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80880" y="1523880"/>
            <a:ext cx="8001000" cy="0"/>
          </a:xfrm>
          <a:prstGeom prst="line">
            <a:avLst/>
          </a:prstGeom>
          <a:ln w="38160">
            <a:solidFill>
              <a:srgbClr val="00007d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152280" y="762120"/>
            <a:ext cx="533160" cy="609480"/>
            <a:chOff x="152280" y="762120"/>
            <a:chExt cx="533160" cy="609480"/>
          </a:xfrm>
        </p:grpSpPr>
        <p:sp>
          <p:nvSpPr>
            <p:cNvPr id="1542" name=""/>
            <p:cNvSpPr/>
            <p:nvPr/>
          </p:nvSpPr>
          <p:spPr>
            <a:xfrm>
              <a:off x="315360" y="762120"/>
              <a:ext cx="21024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280" y="89064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52280" y="104976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2480" y="1065600"/>
              <a:ext cx="209880" cy="30600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09320" y="104976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09320" y="88704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7960" y="987120"/>
              <a:ext cx="18468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Bài tập về nh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Đọc lại bài Tìm kiếm và thay th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Bài tập 2,3,4 sách giáo khoa trang 98,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Đọc bài mớ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0880" y="1676520"/>
            <a:ext cx="8001000" cy="0"/>
          </a:xfrm>
          <a:prstGeom prst="line">
            <a:avLst/>
          </a:prstGeom>
          <a:ln w="38160">
            <a:solidFill>
              <a:srgbClr val="00007d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152280" y="762120"/>
            <a:ext cx="533160" cy="609480"/>
            <a:chOff x="152280" y="762120"/>
            <a:chExt cx="533160" cy="609480"/>
          </a:xfrm>
        </p:grpSpPr>
        <p:sp>
          <p:nvSpPr>
            <p:cNvPr id="1553" name=""/>
            <p:cNvSpPr/>
            <p:nvPr/>
          </p:nvSpPr>
          <p:spPr>
            <a:xfrm>
              <a:off x="315360" y="762120"/>
              <a:ext cx="21024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52280" y="89064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52280" y="104976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2480" y="1065600"/>
              <a:ext cx="209880" cy="30600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09320" y="1049760"/>
              <a:ext cx="27612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09320" y="887040"/>
              <a:ext cx="27612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27960" y="987120"/>
              <a:ext cx="18468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0" name="" descr=""/>
          <p:cNvPicPr/>
          <p:nvPr/>
        </p:nvPicPr>
        <p:blipFill>
          <a:blip r:embed="rId1"/>
          <a:stretch/>
        </p:blipFill>
        <p:spPr>
          <a:xfrm>
            <a:off x="0" y="5197320"/>
            <a:ext cx="3809880" cy="166068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166068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465120" y="2739960"/>
            <a:ext cx="8134200" cy="152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787680" y="3073680"/>
            <a:ext cx="7488360" cy="862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"/>
          <p:cNvSpPr/>
          <p:nvPr/>
        </p:nvSpPr>
        <p:spPr>
          <a:xfrm>
            <a:off x="2265480" y="2959200"/>
            <a:ext cx="4532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400" spc="-1" strike="noStrike">
                <a:solidFill>
                  <a:srgbClr val="ffff99"/>
                </a:solidFill>
                <a:latin typeface="Verdana"/>
              </a:rPr>
              <a:t>Kết thúc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6699">
                  <a:alpha val="0"/>
                </a:srgbClr>
              </a:gs>
              <a:gs pos="100000">
                <a:srgbClr val="edfa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húc các 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học tập tốt 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1"/>
          <a:stretch/>
        </p:blipFill>
        <p:spPr>
          <a:xfrm>
            <a:off x="0" y="5197320"/>
            <a:ext cx="3809880" cy="166068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05556E-006 4.38483E-006 L -0.12205 4.38483E-006 E">
                                      <p:cBhvr>
                                        <p:cTn id="346" dur="500" fill="hold"/>
                                        <p:tgtEl>
                                          <p:spTgt spid="1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Ví dụ: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Tìm từ “xây dựng” trong văn bả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Vào </a:t>
            </a:r>
            <a:r>
              <a:rPr b="0" i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Edi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chọn Find.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Ở hộp thoại </a:t>
            </a:r>
            <a:r>
              <a:rPr b="0" i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Find and Replac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chọn </a:t>
            </a:r>
            <a:r>
              <a:rPr b="0" i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Fin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Gõ “xây dựng” vào ô </a:t>
            </a:r>
            <a:r>
              <a:rPr b="0" i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Find wha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Nhấn vào </a:t>
            </a:r>
            <a:r>
              <a:rPr b="0" i="1" lang="en-US" sz="3900" spc="-1" strike="noStrike" u="sng">
                <a:solidFill>
                  <a:srgbClr val="000000"/>
                </a:solidFill>
                <a:uFillTx/>
                <a:latin typeface="Times New Roman"/>
              </a:rPr>
              <a:t>Find nex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để tìm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"/>
          <p:cNvSpPr/>
          <p:nvPr/>
        </p:nvSpPr>
        <p:spPr>
          <a:xfrm>
            <a:off x="7086600" y="5562720"/>
            <a:ext cx="14479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Quay v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Ví dụ: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Sửa tất cả các từ “xây dựng” trong văn bản thành “Xây Dựng”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à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ọ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Ở hộp thoại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 and 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ọ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õ “xây dựng” vào ô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Xây Dựng” vào ô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place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ấn và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để thay th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ấn và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để tìm kiế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">
            <a:hlinkClick r:id="rId2" action="ppaction://hlinksldjump"/>
          </p:cNvPr>
          <p:cNvSpPr/>
          <p:nvPr/>
        </p:nvSpPr>
        <p:spPr>
          <a:xfrm>
            <a:off x="7238880" y="6172200"/>
            <a:ext cx="14479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imes New Roman"/>
                <a:hlinkClick r:id="rId3" action="ppaction://hlinksldjump"/>
              </a:rPr>
              <a:t>Quay v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K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ểm Tra Bài C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âu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Để xóa kí tự bên phải con trỏ soạn thảo ta dùng phí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 Bac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, De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, Tất cả các phí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Đáp án đúng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1219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âu 2: Để khôi phục trang thái của văn bản trước khi thực hiện 1 thao tác nào đó ta dùng lện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,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, Bac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Đáp án đúng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9072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Bài 19:</a:t>
            </a:r>
            <a:br>
              <a:rPr sz="2800"/>
            </a:b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6600cc"/>
                </a:solidFill>
                <a:uFillTx/>
                <a:latin typeface="Times New Roman"/>
              </a:rPr>
              <a:t>Tìm kiếm và thay thế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Times New Roman"/>
              </a:rPr>
              <a:t>(Tiết 1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5638680" cy="160020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05740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7" name=""/>
          <p:cNvGraphicFramePr/>
          <p:nvPr/>
        </p:nvGraphicFramePr>
        <p:xfrm>
          <a:off x="6934320" y="4800600"/>
          <a:ext cx="20574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9" name="" descr=""/>
          <p:cNvPicPr/>
          <p:nvPr/>
        </p:nvPicPr>
        <p:blipFill>
          <a:blip r:embed="rId5"/>
          <a:stretch/>
        </p:blipFill>
        <p:spPr>
          <a:xfrm>
            <a:off x="7315200" y="838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867280" cy="4807080"/>
          </a:xfrm>
          <a:prstGeom prst="rect">
            <a:avLst/>
          </a:prstGeom>
          <a:ln w="0">
            <a:noFill/>
          </a:ln>
        </p:spPr>
      </p:pic>
      <p:grpSp>
        <p:nvGrpSpPr>
          <p:cNvPr id="1331" name=""/>
          <p:cNvGrpSpPr/>
          <p:nvPr/>
        </p:nvGrpSpPr>
        <p:grpSpPr>
          <a:xfrm>
            <a:off x="609480" y="0"/>
            <a:ext cx="5181480" cy="5486040"/>
            <a:chOff x="609480" y="0"/>
            <a:chExt cx="5181480" cy="5486040"/>
          </a:xfrm>
        </p:grpSpPr>
        <p:grpSp>
          <p:nvGrpSpPr>
            <p:cNvPr id="1332" name=""/>
            <p:cNvGrpSpPr/>
            <p:nvPr/>
          </p:nvGrpSpPr>
          <p:grpSpPr>
            <a:xfrm>
              <a:off x="609480" y="0"/>
              <a:ext cx="5181480" cy="5486040"/>
              <a:chOff x="609480" y="0"/>
              <a:chExt cx="5181480" cy="5486040"/>
            </a:xfrm>
          </p:grpSpPr>
          <p:sp>
            <p:nvSpPr>
              <p:cNvPr id="1333" name=""/>
              <p:cNvSpPr/>
              <p:nvPr/>
            </p:nvSpPr>
            <p:spPr>
              <a:xfrm>
                <a:off x="761760" y="0"/>
                <a:ext cx="5029200" cy="1389960"/>
              </a:xfrm>
              <a:prstGeom prst="cloudCallout">
                <a:avLst>
                  <a:gd name="adj1" fmla="val -32671"/>
                  <a:gd name="adj2" fmla="val 228837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33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877200"/>
                <a:ext cx="1336680" cy="160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5" name=""/>
            <p:cNvSpPr/>
            <p:nvPr/>
          </p:nvSpPr>
          <p:spPr>
            <a:xfrm>
              <a:off x="1676160" y="438840"/>
              <a:ext cx="30481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ình muốn tìm chữ “xây dựng”  m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văn bản này nhiều chữ quá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hẳng biết tìm ở đâu cả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Bạn nào có thể giúp mình không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6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7" name="" descr=""/>
          <p:cNvPicPr/>
          <p:nvPr/>
        </p:nvPicPr>
        <p:blipFill>
          <a:blip r:embed="rId4"/>
          <a:stretch/>
        </p:blipFill>
        <p:spPr>
          <a:xfrm>
            <a:off x="7689960" y="0"/>
            <a:ext cx="1454040" cy="157464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5"/>
          <a:stretch/>
        </p:blipFill>
        <p:spPr>
          <a:xfrm>
            <a:off x="0" y="5867280"/>
            <a:ext cx="121932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9" name=""/>
          <p:cNvGrpSpPr/>
          <p:nvPr/>
        </p:nvGrpSpPr>
        <p:grpSpPr>
          <a:xfrm>
            <a:off x="228600" y="304920"/>
            <a:ext cx="4114440" cy="2888280"/>
            <a:chOff x="228600" y="304920"/>
            <a:chExt cx="4114440" cy="2888280"/>
          </a:xfrm>
        </p:grpSpPr>
        <p:pic>
          <p:nvPicPr>
            <p:cNvPr id="134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4114440" cy="25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1" name=""/>
            <p:cNvSpPr/>
            <p:nvPr/>
          </p:nvSpPr>
          <p:spPr>
            <a:xfrm>
              <a:off x="228600" y="2824920"/>
              <a:ext cx="4114440" cy="368280"/>
            </a:xfrm>
            <a:prstGeom prst="rect">
              <a:avLst/>
            </a:prstGeom>
            <a:solidFill>
              <a:srgbClr val="f3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ch tạo văn bản truyền thố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228600" y="3581280"/>
            <a:ext cx="4114800" cy="2795040"/>
            <a:chOff x="228600" y="3581280"/>
            <a:chExt cx="4114800" cy="2795040"/>
          </a:xfrm>
        </p:grpSpPr>
        <p:pic>
          <p:nvPicPr>
            <p:cNvPr id="1343" name="" descr=""/>
            <p:cNvPicPr/>
            <p:nvPr/>
          </p:nvPicPr>
          <p:blipFill>
            <a:blip r:embed="rId2"/>
            <a:stretch/>
          </p:blipFill>
          <p:spPr>
            <a:xfrm>
              <a:off x="228600" y="3581280"/>
              <a:ext cx="4114800" cy="24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228600" y="6008040"/>
              <a:ext cx="4114800" cy="368280"/>
            </a:xfrm>
            <a:prstGeom prst="rect">
              <a:avLst/>
            </a:prstGeom>
            <a:solidFill>
              <a:srgbClr val="e6e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ạo văn bản bằng máy tí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724280" y="533520"/>
            <a:ext cx="396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ết trê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ấy: Khi cần tìm 1 từ nào sẽ rất khó vì phải đọc lại văn bản =&gt; Tốn thời gian và công sức, và cũng khó sửa chữ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572000" y="38098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ạn thảo trên máy tính: Chương trình soạn thảo cung cấp cho chúng ta công cụ tìm kiếm và sửa lỗi rất nhanh chó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762120" y="609480"/>
            <a:ext cx="7009920" cy="465120"/>
            <a:chOff x="762120" y="609480"/>
            <a:chExt cx="7009920" cy="465120"/>
          </a:xfrm>
        </p:grpSpPr>
        <p:sp>
          <p:nvSpPr>
            <p:cNvPr id="1348" name="">
              <a:hlinkClick r:id="rId1" action="ppaction://hlinksldjump"/>
            </p:cNvPr>
            <p:cNvSpPr/>
            <p:nvPr/>
          </p:nvSpPr>
          <p:spPr>
            <a:xfrm>
              <a:off x="1051560" y="609480"/>
              <a:ext cx="6720480" cy="4651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</a:rPr>
                <a:t>1. Tìm phần văn bả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762120" y="647640"/>
              <a:ext cx="361800" cy="380880"/>
              <a:chOff x="762120" y="647640"/>
              <a:chExt cx="361800" cy="380880"/>
            </a:xfrm>
          </p:grpSpPr>
          <p:sp>
            <p:nvSpPr>
              <p:cNvPr id="1350" name=""/>
              <p:cNvSpPr/>
              <p:nvPr/>
            </p:nvSpPr>
            <p:spPr>
              <a:xfrm>
                <a:off x="762120" y="647640"/>
                <a:ext cx="36180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82640" y="668880"/>
                <a:ext cx="32040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01360" y="689040"/>
                <a:ext cx="28260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c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01360" y="689040"/>
                <a:ext cx="28260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20080" y="708480"/>
                <a:ext cx="245520" cy="258840"/>
              </a:xfrm>
              <a:prstGeom prst="ellipse">
                <a:avLst/>
              </a:prstGeom>
              <a:gradFill rotWithShape="0">
                <a:gsLst>
                  <a:gs pos="0">
                    <a:srgbClr val="896d00"/>
                  </a:gs>
                  <a:gs pos="50000">
                    <a:srgbClr val="ffcc00"/>
                  </a:gs>
                  <a:gs pos="100000">
                    <a:srgbClr val="896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20080" y="708480"/>
                <a:ext cx="24552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PlaceHolder 1"/>
          <p:cNvSpPr>
            <a:spLocks noGrp="1"/>
          </p:cNvSpPr>
          <p:nvPr>
            <p:ph/>
          </p:nvPr>
        </p:nvSpPr>
        <p:spPr>
          <a:xfrm>
            <a:off x="457200" y="167472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Các bước thực hiệ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*Bước 1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Vào Edit -&gt; Fi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6600"/>
                </a:solidFill>
                <a:latin typeface="Times New Roman"/>
              </a:rPr>
              <a:t>Hộp hoại Find and Replace xuất hiệ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1981080" y="3886200"/>
            <a:ext cx="5096160" cy="2371680"/>
            <a:chOff x="1981080" y="3886200"/>
            <a:chExt cx="5096160" cy="2371680"/>
          </a:xfrm>
        </p:grpSpPr>
        <p:pic>
          <p:nvPicPr>
            <p:cNvPr id="1358" name="" descr=""/>
            <p:cNvPicPr/>
            <p:nvPr/>
          </p:nvPicPr>
          <p:blipFill>
            <a:blip r:embed="rId2"/>
            <a:stretch/>
          </p:blipFill>
          <p:spPr>
            <a:xfrm>
              <a:off x="1981080" y="4267080"/>
              <a:ext cx="509616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"/>
            <p:cNvSpPr/>
            <p:nvPr/>
          </p:nvSpPr>
          <p:spPr>
            <a:xfrm>
              <a:off x="3962520" y="3886200"/>
              <a:ext cx="2209680" cy="304560"/>
            </a:xfrm>
            <a:prstGeom prst="borderCallout1">
              <a:avLst>
                <a:gd name="adj1" fmla="val 18750"/>
                <a:gd name="adj2" fmla="val -8333"/>
                <a:gd name="adj3" fmla="val 376041"/>
                <a:gd name="adj4" fmla="val -18462"/>
              </a:avLst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õ nội dung cần tì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29000" y="5257800"/>
              <a:ext cx="2209680" cy="304560"/>
            </a:xfrm>
            <a:prstGeom prst="borderCallout1">
              <a:avLst>
                <a:gd name="adj1" fmla="val 18750"/>
                <a:gd name="adj2" fmla="val -8333"/>
                <a:gd name="adj3" fmla="val 241148"/>
                <a:gd name="adj4" fmla="val 114870"/>
              </a:avLst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háy Find Next để tì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1" name="" descr=""/>
          <p:cNvPicPr/>
          <p:nvPr/>
        </p:nvPicPr>
        <p:blipFill>
          <a:blip r:embed="rId3"/>
          <a:stretch/>
        </p:blipFill>
        <p:spPr>
          <a:xfrm>
            <a:off x="7315200" y="1981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/>
          </p:nvPr>
        </p:nvSpPr>
        <p:spPr>
          <a:xfrm>
            <a:off x="-360" y="2895120"/>
            <a:ext cx="8839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Bước 2: Gõ nội dung cần tìm vào ô 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Times New Roman"/>
              </a:rPr>
              <a:t>Find what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Bước 3: Nháy vào 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Times New Roman"/>
              </a:rPr>
              <a:t>Find Next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nếu muốn tìm tiế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Bước 4: Nhấn vào 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Times New Roman"/>
              </a:rPr>
              <a:t>Cancel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nếu muốn kết thú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Lưu ý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: _ Từ (hoặc dãy kí tự) tìm được sẽ được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hiển thị dưới dạng “bôi đen”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219320" y="0"/>
            <a:ext cx="6171840" cy="2742840"/>
            <a:chOff x="1219320" y="0"/>
            <a:chExt cx="6171840" cy="2742840"/>
          </a:xfrm>
        </p:grpSpPr>
        <p:pic>
          <p:nvPicPr>
            <p:cNvPr id="1364" name="" descr=""/>
            <p:cNvPicPr/>
            <p:nvPr/>
          </p:nvPicPr>
          <p:blipFill>
            <a:blip r:embed="rId1"/>
            <a:stretch/>
          </p:blipFill>
          <p:spPr>
            <a:xfrm>
              <a:off x="1219320" y="440280"/>
              <a:ext cx="6171840" cy="23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"/>
            <p:cNvSpPr/>
            <p:nvPr/>
          </p:nvSpPr>
          <p:spPr>
            <a:xfrm>
              <a:off x="3619080" y="0"/>
              <a:ext cx="2675880" cy="352080"/>
            </a:xfrm>
            <a:prstGeom prst="borderCallout1">
              <a:avLst>
                <a:gd name="adj1" fmla="val 18750"/>
                <a:gd name="adj2" fmla="val -8333"/>
                <a:gd name="adj3" fmla="val 376041"/>
                <a:gd name="adj4" fmla="val -18462"/>
              </a:avLst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õ nội dung cần tì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2880" y="1586160"/>
              <a:ext cx="2675880" cy="352080"/>
            </a:xfrm>
            <a:prstGeom prst="borderCallout1">
              <a:avLst>
                <a:gd name="adj1" fmla="val 18750"/>
                <a:gd name="adj2" fmla="val -8333"/>
                <a:gd name="adj3" fmla="val 241148"/>
                <a:gd name="adj4" fmla="val 114870"/>
              </a:avLst>
            </a:prstGeom>
            <a:noFill/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háy Find Next để tì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>
            <a:hlinkClick r:id="rId2" action="ppaction://hlinksldjump"/>
          </p:cNvPr>
          <p:cNvSpPr/>
          <p:nvPr/>
        </p:nvSpPr>
        <p:spPr>
          <a:xfrm>
            <a:off x="7391520" y="6019920"/>
            <a:ext cx="106668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Times New Roman"/>
                <a:hlinkClick r:id="rId3" action="ppaction://hlinksldjump"/>
              </a:rPr>
              <a:t>Ví d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2057400" y="5334120"/>
            <a:ext cx="4952880" cy="1295280"/>
          </a:xfrm>
          <a:prstGeom prst="cloudCallout">
            <a:avLst>
              <a:gd name="adj1" fmla="val 69069"/>
              <a:gd name="adj2" fmla="val -165685"/>
            </a:avLst>
          </a:prstGeom>
          <a:gradFill rotWithShape="0">
            <a:gsLst>
              <a:gs pos="0">
                <a:srgbClr val="000000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hưng làm thế nào để sửa tất cả thành “Xây Dựng” 1 cách nhanh nhất bây gi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3600" y="1828800"/>
            <a:ext cx="2743200" cy="15238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248520" y="1828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0800" cy="493092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6172200" y="990720"/>
            <a:ext cx="2819520" cy="31240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5562720" y="1066680"/>
            <a:ext cx="3317760" cy="3810240"/>
            <a:chOff x="5562720" y="1066680"/>
            <a:chExt cx="3317760" cy="3810240"/>
          </a:xfrm>
        </p:grpSpPr>
        <p:pic>
          <p:nvPicPr>
            <p:cNvPr id="1374" name="" descr=""/>
            <p:cNvPicPr/>
            <p:nvPr/>
          </p:nvPicPr>
          <p:blipFill>
            <a:blip r:embed="rId2"/>
            <a:stretch/>
          </p:blipFill>
          <p:spPr>
            <a:xfrm>
              <a:off x="7543800" y="3200400"/>
              <a:ext cx="1336680" cy="167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5" name=""/>
            <p:cNvGrpSpPr/>
            <p:nvPr/>
          </p:nvGrpSpPr>
          <p:grpSpPr>
            <a:xfrm>
              <a:off x="5562720" y="1066680"/>
              <a:ext cx="3047760" cy="2286000"/>
              <a:chOff x="5562720" y="1066680"/>
              <a:chExt cx="3047760" cy="2286000"/>
            </a:xfrm>
          </p:grpSpPr>
          <p:sp>
            <p:nvSpPr>
              <p:cNvPr id="1376" name=""/>
              <p:cNvSpPr/>
              <p:nvPr/>
            </p:nvSpPr>
            <p:spPr>
              <a:xfrm>
                <a:off x="5562720" y="1066680"/>
                <a:ext cx="3047760" cy="2286000"/>
              </a:xfrm>
              <a:prstGeom prst="irregularSeal1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1473400">
                <a:off x="5790960" y="1904760"/>
                <a:ext cx="274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hiều từ “xây dựng” quá. Cảm ơn các bạn nhiều nha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04:05Z</dcterms:created>
  <dc:creator>Le_Nhan</dc:creator>
  <dc:description/>
  <dc:language>en-US</dc:language>
  <cp:lastModifiedBy>User</cp:lastModifiedBy>
  <dcterms:modified xsi:type="dcterms:W3CDTF">2009-02-23T23:27:36Z</dcterms:modified>
  <cp:revision>59</cp:revision>
  <dc:subject/>
  <dc:title>Môn học: Tin hoc lớp 6</dc:title>
</cp:coreProperties>
</file>