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9D9-3B1D-456F-8C7D-F305C017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48D-B805-4A00-ACD2-AD98100D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F94-8DB1-4193-AD3D-C412BCC3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9C4-AC64-4CAA-9EBE-A4B60B3D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96CD-5448-440C-B19F-3675DD3D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B618-EC04-4DD7-8785-96D45755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2C32-50F9-42CC-BD3A-49149B57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49A6-C5E3-499E-868A-2D617AD6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3440-0571-469E-BBAA-9613A60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2DF9-081E-43CE-9E17-A38C8E01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9019-F863-4461-82D2-3D0B8A3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0B0-8579-4907-8DC2-A9D71180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B569-11C5-4A08-A35B-22115A5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E027-B66E-4608-9DED-7E4A96B0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9142-E60C-4C58-8F5C-4AAA1E0B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858E-1D24-4320-B3CF-428401DC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660D-36F0-46F9-81D2-A21A01A5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7C7-50E4-446D-AB65-72D70EB1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7D9-E518-4E86-98F5-41FB9412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3E2-A3C1-4087-BF26-F57CBE43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2BC-70FB-423D-9790-F801CB80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B34-3ADF-4B9C-BE47-0F93A292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6D1-9767-49A7-BE49-67BAAAA7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278-1D26-4EF7-B06A-046C630B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11A6-AA42-4487-A073-1C21FA9D88E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28F4-68DE-450D-8908-3D8400058DF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nh%20goc.doc" TargetMode="External"/><Relationship Id="rId2" Type="http://schemas.openxmlformats.org/officeDocument/2006/relationships/hyperlink" Target="file:///Anh%20goc.doc" TargetMode="External"/><Relationship Id="rId3" Type="http://schemas.openxmlformats.org/officeDocument/2006/relationships/hyperlink" Target="file:///Anh%20goc.doc" TargetMode="External"/><Relationship Id="rId4" Type="http://schemas.openxmlformats.org/officeDocument/2006/relationships/hyperlink" Target="file:///Anh%20goc.doc" TargetMode="External"/><Relationship Id="rId5" Type="http://schemas.openxmlformats.org/officeDocument/2006/relationships/hyperlink" Target="file:///Anh%20goc.doc" TargetMode="External"/><Relationship Id="rId6" Type="http://schemas.openxmlformats.org/officeDocument/2006/relationships/hyperlink" Target="file:///Anh%20goc.doc" TargetMode="External"/><Relationship Id="rId7" Type="http://schemas.openxmlformats.org/officeDocument/2006/relationships/hyperlink" Target="file:///Anh%20goc.doc" TargetMode="External"/><Relationship Id="rId8" Type="http://schemas.openxmlformats.org/officeDocument/2006/relationships/hyperlink" Target="file:///Anh%20goc.doc" TargetMode="External"/><Relationship Id="rId9" Type="http://schemas.openxmlformats.org/officeDocument/2006/relationships/hyperlink" Target="file:///Anh%20goc.doc" TargetMode="External"/><Relationship Id="rId10" Type="http://schemas.openxmlformats.org/officeDocument/2006/relationships/hyperlink" Target="file:///Anh%20goc.doc" TargetMode="External"/><Relationship Id="rId11" Type="http://schemas.openxmlformats.org/officeDocument/2006/relationships/hyperlink" Target="file:///Anh%20goc.doc" TargetMode="External"/><Relationship Id="rId12" Type="http://schemas.openxmlformats.org/officeDocument/2006/relationships/hyperlink" Target="file:///Anh%20goc.doc" TargetMode="External"/><Relationship Id="rId13" Type="http://schemas.openxmlformats.org/officeDocument/2006/relationships/hyperlink" Target="file:///Anh%20goc.doc" TargetMode="External"/><Relationship Id="rId14" Type="http://schemas.openxmlformats.org/officeDocument/2006/relationships/hyperlink" Target="file:///Anh%20goc.doc" TargetMode="External"/><Relationship Id="rId15" Type="http://schemas.openxmlformats.org/officeDocument/2006/relationships/hyperlink" Target="file:///Anh%20goc.doc" TargetMode="External"/><Relationship Id="rId16" Type="http://schemas.openxmlformats.org/officeDocument/2006/relationships/hyperlink" Target="file:///Anh%20goc.doc" TargetMode="External"/><Relationship Id="rId17" Type="http://schemas.openxmlformats.org/officeDocument/2006/relationships/hyperlink" Target="file:///Anh%20goc.doc" TargetMode="External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5.swf" TargetMode="External"/><Relationship Id="rId2" Type="http://schemas.openxmlformats.org/officeDocument/2006/relationships/hyperlink" Target="file:///../5.swf" TargetMode="External"/><Relationship Id="rId3" Type="http://schemas.openxmlformats.org/officeDocument/2006/relationships/hyperlink" Target="file:///../5.swf" TargetMode="External"/><Relationship Id="rId4" Type="http://schemas.openxmlformats.org/officeDocument/2006/relationships/hyperlink" Target="file:///../5.swf" TargetMode="External"/><Relationship Id="rId5" Type="http://schemas.openxmlformats.org/officeDocument/2006/relationships/hyperlink" Target="file:///../5.swf" TargetMode="External"/><Relationship Id="rId6" Type="http://schemas.openxmlformats.org/officeDocument/2006/relationships/hyperlink" Target="file:///../5.swf" TargetMode="External"/><Relationship Id="rId7" Type="http://schemas.openxmlformats.org/officeDocument/2006/relationships/hyperlink" Target="file:///../5.swf" TargetMode="External"/><Relationship Id="rId8" Type="http://schemas.openxmlformats.org/officeDocument/2006/relationships/hyperlink" Target="file:///../5.swf" TargetMode="External"/><Relationship Id="rId9" Type="http://schemas.openxmlformats.org/officeDocument/2006/relationships/hyperlink" Target="file:///../5.swf" TargetMode="External"/><Relationship Id="rId10" Type="http://schemas.openxmlformats.org/officeDocument/2006/relationships/hyperlink" Target="file:///../5.swf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.VnTimeH"/>
              </a:rPr>
              <a:t>I. KiÓm tra bµi cò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1, ThÕ nµo lµ nöa mÆt ph¼ng bê a ? ThÕ nµo lµ hai nöa mÆt ph¼ng ®èi nhau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708280"/>
            <a:ext cx="849780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Tr¶ lêi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- H×nh gåm ®­êng th¼ng a vµ mét phÇn mÆt ph¼ng bÞ chia ra bëi a gäi lµ nöa mÆt ph¼ng bê 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- Hai nöa mÆt ph¼ng cã chung bê gäi lµ hai nöa mÆt ph¼ng ®èi nhau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5543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.VnTimeH"/>
              </a:rPr>
              <a:t>H­íng DÉn VÒ Nh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- Häc bµi theo Sg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- BTVN: 8; 9; 10 (Sgk); 7; 10 (SB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- Hoµn chØnh c¸c c©u sau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* Gãc mAn lµ h×nh gåm</a:t>
            </a: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......................................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* Gãc</a:t>
            </a: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...........................</a:t>
            </a: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 lµ h×nh gåm 2 tia St vµ Sv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* Gãc mOn lµ gãc bÑt khi</a:t>
            </a: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...................................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* Tia OK n»m</a:t>
            </a: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 .............. </a:t>
            </a: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2 tia Ox vµ Oy th× ®iÓm</a:t>
            </a: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....</a:t>
            </a: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 n»m trong gãc xO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569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- BT thªm: VÏ 5 tia chung gèc Ox; Oy; Oz; Om; On. Chóng t¹o thµnh bao nhiªu gãc? H·y kÓ tªn c¸c gãc ®ã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.VnHelvetIns"/>
              </a:rPr>
              <a:t>(L­u ý: Tham kh¶o c«ng thøc sau ®Ó kiÓm tra sè gãc t×m ®­îc: Cho n tia chung gèc, n </a:t>
            </a:r>
            <a:r>
              <a:rPr b="0" lang="en-US" sz="3200" spc="-1" strike="noStrike">
                <a:solidFill>
                  <a:srgbClr val="eec85e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ec85e"/>
                </a:solidFill>
                <a:latin typeface=".VnHelvetIns"/>
              </a:rPr>
              <a:t>N; n </a:t>
            </a:r>
            <a:r>
              <a:rPr b="0" lang="en-US" sz="3200" spc="-1" strike="noStrike">
                <a:solidFill>
                  <a:srgbClr val="eec85e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eec85e"/>
                </a:solidFill>
                <a:latin typeface=".VnHelvetIns"/>
              </a:rPr>
              <a:t>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.VnHelvetIns"/>
              </a:rPr>
              <a:t>        </a:t>
            </a:r>
            <a:r>
              <a:rPr b="0" lang="en-US" sz="3200" spc="-1" strike="noStrike">
                <a:solidFill>
                  <a:srgbClr val="eec85e"/>
                </a:solidFill>
                <a:latin typeface=".VnHelvetIns"/>
              </a:rPr>
              <a:t>Sè gãc = n.(n – 1) :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- ChuÈn bÞ bµi sau: Mang th­íc ®o gãc cã ghi ®é theo 2 chiÒu (Cïng chiÒu hoÆc ng­îc chiÒu kim ®ång hå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39640" y="2133720"/>
            <a:ext cx="7777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.VnAristote"/>
              </a:rPr>
              <a:t>Xin c¶m ¬n c¸c thÇy c« gi¸o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.VnAristote"/>
              <a:ea typeface=".VnAristo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.VnAristote"/>
              </a:rPr>
              <a:t>vµ c¸c em häc sinh ®· l¾ng ngh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.VnAristote"/>
              <a:ea typeface=".VnAristo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34920" y="1989000"/>
            <a:ext cx="8352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Tr¶ lê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.VnHelvetI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LÊy 1 ®iÓm bÊt kú (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  <a:ea typeface="Times New Roman"/>
              </a:rPr>
              <a:t>≠ O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thuéc tia O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.VnHelvetI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LÊy 1 ®iÓm bÊt kú (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  <a:ea typeface="Times New Roman"/>
              </a:rPr>
              <a:t>≠ O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thuéc tia 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.VnHelvetI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Do ®o¹n th¼ng nèi 2 ®iÓm ®ã c¾t tia 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Tia Oz n»m gi÷a hai tia Ox vµ 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HelvetIns"/>
              </a:rPr>
              <a:t>3, §iÒn dÊu x vµo « trèng mµ em chän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04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2, Cho h×nh vÏ. H·y x¸c ®Þnh tia n»m gi÷a hai tia cßn l¹i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638172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516360" y="1628640"/>
            <a:ext cx="1800360" cy="12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2924280"/>
            <a:ext cx="2087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2924280"/>
            <a:ext cx="2087640" cy="792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8508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44000" y="2557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z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88360" y="2219400"/>
            <a:ext cx="3636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89800" y="2217600"/>
            <a:ext cx="576360" cy="129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64360" y="3500280"/>
            <a:ext cx="367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12000" y="2924280"/>
            <a:ext cx="367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26828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1, Gã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* Kh¸i niÖm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Gãc xOy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        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- C¸ch ®äc: gãc xOy (gãc yOx hoÆc gãc 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- Ký hiÖu:   xOy ( yOx; ¤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       </a:t>
            </a: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hay 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 xOy (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yOx;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2565360"/>
            <a:ext cx="1152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2565360"/>
            <a:ext cx="108108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234936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220500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®iÓm O: ®Øn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2781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Ox, Oy: c¹n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195280" y="4076640"/>
            <a:ext cx="36036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4076640"/>
            <a:ext cx="28728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131640" y="4076640"/>
            <a:ext cx="36036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4076640"/>
            <a:ext cx="28764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1240"/>
            <a:ext cx="6059520" cy="115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.VnTimeH"/>
              </a:rPr>
              <a:t>TiÕt 17</a:t>
            </a:r>
            <a:r>
              <a:rPr b="0" lang="en-US" sz="4400" spc="-1" strike="noStrike">
                <a:solidFill>
                  <a:srgbClr val="ffff00"/>
                </a:solidFill>
                <a:latin typeface=".VnTimeH"/>
              </a:rPr>
              <a:t>: </a:t>
            </a:r>
            <a:r>
              <a:rPr b="1" lang="en-US" sz="4400" spc="-1" strike="noStrike">
                <a:solidFill>
                  <a:srgbClr val="ffff00"/>
                </a:solidFill>
                <a:latin typeface=".VnTimeH"/>
              </a:rPr>
              <a:t>Gã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795640" y="907920"/>
            <a:ext cx="280836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1700280"/>
            <a:ext cx="2808360" cy="936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62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19280" y="2766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(H1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0542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(H2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80360" y="3125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(H3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32702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x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391788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xOy hoÆc M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3198960"/>
            <a:ext cx="36036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3198960"/>
            <a:ext cx="28908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41920" y="3846600"/>
            <a:ext cx="21780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00720" y="3846600"/>
            <a:ext cx="21600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740360" y="3774960"/>
            <a:ext cx="36036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01080" y="3774960"/>
            <a:ext cx="35856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24000" y="1425600"/>
            <a:ext cx="8820000" cy="1781280"/>
            <a:chOff x="324000" y="1425600"/>
            <a:chExt cx="8820000" cy="1781280"/>
          </a:xfrm>
        </p:grpSpPr>
        <p:sp>
          <p:nvSpPr>
            <p:cNvPr id="158" name=""/>
            <p:cNvSpPr/>
            <p:nvPr/>
          </p:nvSpPr>
          <p:spPr>
            <a:xfrm flipH="1">
              <a:off x="4356000" y="1425600"/>
              <a:ext cx="1152720" cy="69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43640" y="1425600"/>
              <a:ext cx="792360" cy="1197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6000" y="2622600"/>
              <a:ext cx="1908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43640" y="1425600"/>
              <a:ext cx="792360" cy="1197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4000" y="14256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27640" y="14256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712360" y="26226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24000" y="1425600"/>
              <a:ext cx="8280360" cy="1781280"/>
              <a:chOff x="324000" y="1425600"/>
              <a:chExt cx="8280360" cy="1781280"/>
            </a:xfrm>
          </p:grpSpPr>
          <p:sp>
            <p:nvSpPr>
              <p:cNvPr id="166" name=""/>
              <p:cNvSpPr/>
              <p:nvPr/>
            </p:nvSpPr>
            <p:spPr>
              <a:xfrm>
                <a:off x="395280" y="2406600"/>
                <a:ext cx="3168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43280" y="2406600"/>
                <a:ext cx="363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11640" y="2262240"/>
                <a:ext cx="1512720" cy="7207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56000" y="2117880"/>
                <a:ext cx="36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356000" y="1425600"/>
                <a:ext cx="1152720" cy="6922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56000" y="2117880"/>
                <a:ext cx="36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11640" y="2262240"/>
                <a:ext cx="363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32720" y="1901880"/>
                <a:ext cx="363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317080" y="2622600"/>
                <a:ext cx="363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36000" y="2622600"/>
                <a:ext cx="363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4000" y="240660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32000" y="24066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64000" y="28386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63640" y="197496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95640" y="175104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80000" y="226224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Verdana"/>
                  </a:rPr>
                  <a:t>O’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00720" y="183024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Verdana"/>
                  </a:rPr>
                  <a:t>M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72360" y="26226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Verdana"/>
                  </a:rPr>
                  <a:t>N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877080" y="25509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-511560" y="384120"/>
            <a:ext cx="103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Bµi tËp: Trong c¸c h×nh sau, h×nh nµo lµ gãc? V× sao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5084640"/>
            <a:ext cx="266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508464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68720" y="5149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54928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(H4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59500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x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410920" y="5950080"/>
            <a:ext cx="36036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5950080"/>
            <a:ext cx="28908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000" y="1424160"/>
            <a:ext cx="84358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1. Gã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* Kh¸i niÖm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2. Gãc bÑ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* Kh¸i niÖm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1"/>
              </a:rPr>
              <a:t>?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2"/>
              </a:rPr>
              <a:t>Mét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4"/>
              </a:rPr>
              <a:t>sè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5"/>
              </a:rPr>
              <a:t>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6"/>
              </a:rPr>
              <a:t>h×nh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7"/>
              </a:rPr>
              <a:t> ¶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8"/>
              </a:rPr>
              <a:t>nh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9"/>
              </a:rPr>
              <a:t>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10"/>
              </a:rPr>
              <a:t>vÒ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11"/>
              </a:rPr>
              <a:t>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12"/>
              </a:rPr>
              <a:t>gãc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13"/>
              </a:rPr>
              <a:t> vµ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14"/>
              </a:rPr>
              <a:t>gãc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15"/>
              </a:rPr>
              <a:t>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16"/>
              </a:rPr>
              <a:t>bÑt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.VnHelvetIns"/>
                <a:hlinkClick r:id="rId17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- Bµi tËp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2917800"/>
            <a:ext cx="381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2917800"/>
            <a:ext cx="367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2557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77000" y="24861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17080" y="2486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71640" y="-360"/>
            <a:ext cx="6059520" cy="11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.VnTimeH"/>
              </a:rPr>
              <a:t>TiÕt 17</a:t>
            </a:r>
            <a:r>
              <a:rPr b="0" lang="en-US" sz="4400" spc="-1" strike="noStrike">
                <a:solidFill>
                  <a:srgbClr val="ffff00"/>
                </a:solidFill>
                <a:latin typeface=".VnTimeH"/>
              </a:rPr>
              <a:t>: </a:t>
            </a:r>
            <a:r>
              <a:rPr b="1" lang="en-US" sz="4400" spc="-1" strike="noStrike">
                <a:solidFill>
                  <a:srgbClr val="ffff00"/>
                </a:solidFill>
                <a:latin typeface=".VnTimeH"/>
              </a:rPr>
              <a:t>Gã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5280" y="61628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aOb; bOc; aO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68360" y="6091200"/>
            <a:ext cx="28728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6091200"/>
            <a:ext cx="36036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31640" y="6091200"/>
            <a:ext cx="36036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14680" y="6091200"/>
            <a:ext cx="28728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68000" y="6091200"/>
            <a:ext cx="28764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6091200"/>
            <a:ext cx="28728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08720" y="6018120"/>
            <a:ext cx="295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¤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.VnTime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; ¤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.VnTime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; ¤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.VnTime"/>
              </a:rPr>
              <a:t>3</a:t>
            </a: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;....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156360" y="4865760"/>
            <a:ext cx="1800000" cy="720720"/>
            <a:chOff x="6156360" y="4865760"/>
            <a:chExt cx="1800000" cy="720720"/>
          </a:xfrm>
        </p:grpSpPr>
        <p:grpSp>
          <p:nvGrpSpPr>
            <p:cNvPr id="211" name=""/>
            <p:cNvGrpSpPr/>
            <p:nvPr/>
          </p:nvGrpSpPr>
          <p:grpSpPr>
            <a:xfrm>
              <a:off x="6156360" y="4865760"/>
              <a:ext cx="1296720" cy="720720"/>
              <a:chOff x="6156360" y="4865760"/>
              <a:chExt cx="1296720" cy="720720"/>
            </a:xfrm>
          </p:grpSpPr>
          <p:sp>
            <p:nvSpPr>
              <p:cNvPr id="212" name=""/>
              <p:cNvSpPr/>
              <p:nvPr/>
            </p:nvSpPr>
            <p:spPr>
              <a:xfrm>
                <a:off x="6503760" y="5297400"/>
                <a:ext cx="157320" cy="289080"/>
              </a:xfrm>
              <a:custGeom>
                <a:avLst/>
                <a:gdLst/>
                <a:ahLst/>
                <a:rect l="l" t="t" r="r" b="b"/>
                <a:pathLst>
                  <a:path w="99" h="182">
                    <a:moveTo>
                      <a:pt x="99" y="0"/>
                    </a:moveTo>
                    <a:cubicBezTo>
                      <a:pt x="57" y="8"/>
                      <a:pt x="16" y="16"/>
                      <a:pt x="8" y="46"/>
                    </a:cubicBezTo>
                    <a:cubicBezTo>
                      <a:pt x="0" y="76"/>
                      <a:pt x="26" y="129"/>
                      <a:pt x="53" y="182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32360" y="5297400"/>
                <a:ext cx="432000" cy="73080"/>
              </a:xfrm>
              <a:custGeom>
                <a:avLst/>
                <a:gdLst/>
                <a:ahLst/>
                <a:rect l="l" t="t" r="r" b="b"/>
                <a:pathLst>
                  <a:path w="272" h="46">
                    <a:moveTo>
                      <a:pt x="0" y="46"/>
                    </a:moveTo>
                    <a:cubicBezTo>
                      <a:pt x="45" y="23"/>
                      <a:pt x="91" y="0"/>
                      <a:pt x="136" y="0"/>
                    </a:cubicBezTo>
                    <a:cubicBezTo>
                      <a:pt x="181" y="0"/>
                      <a:pt x="226" y="23"/>
                      <a:pt x="272" y="46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08720" y="5226120"/>
                <a:ext cx="144360" cy="36036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0" y="0"/>
                    </a:moveTo>
                    <a:cubicBezTo>
                      <a:pt x="38" y="30"/>
                      <a:pt x="76" y="61"/>
                      <a:pt x="91" y="91"/>
                    </a:cubicBezTo>
                    <a:cubicBezTo>
                      <a:pt x="106" y="121"/>
                      <a:pt x="98" y="151"/>
                      <a:pt x="91" y="181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37440" y="5297400"/>
                <a:ext cx="153720" cy="289080"/>
              </a:xfrm>
              <a:custGeom>
                <a:avLst/>
                <a:gdLst/>
                <a:ahLst/>
                <a:rect l="l" t="t" r="r" b="b"/>
                <a:pathLst>
                  <a:path w="97" h="182">
                    <a:moveTo>
                      <a:pt x="0" y="0"/>
                    </a:moveTo>
                    <a:cubicBezTo>
                      <a:pt x="41" y="30"/>
                      <a:pt x="83" y="61"/>
                      <a:pt x="90" y="91"/>
                    </a:cubicBezTo>
                    <a:cubicBezTo>
                      <a:pt x="97" y="121"/>
                      <a:pt x="71" y="151"/>
                      <a:pt x="45" y="182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48360" y="5226120"/>
                <a:ext cx="0" cy="1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156360" y="5154480"/>
                <a:ext cx="21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32360" y="486576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03760" y="5297400"/>
                <a:ext cx="157320" cy="289080"/>
              </a:xfrm>
              <a:custGeom>
                <a:avLst/>
                <a:gdLst/>
                <a:ahLst/>
                <a:rect l="l" t="t" r="r" b="b"/>
                <a:pathLst>
                  <a:path w="99" h="182">
                    <a:moveTo>
                      <a:pt x="99" y="0"/>
                    </a:moveTo>
                    <a:cubicBezTo>
                      <a:pt x="57" y="8"/>
                      <a:pt x="16" y="16"/>
                      <a:pt x="8" y="46"/>
                    </a:cubicBezTo>
                    <a:cubicBezTo>
                      <a:pt x="0" y="76"/>
                      <a:pt x="26" y="129"/>
                      <a:pt x="53" y="182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32360" y="5297400"/>
                <a:ext cx="432000" cy="73080"/>
              </a:xfrm>
              <a:custGeom>
                <a:avLst/>
                <a:gdLst/>
                <a:ahLst/>
                <a:rect l="l" t="t" r="r" b="b"/>
                <a:pathLst>
                  <a:path w="272" h="46">
                    <a:moveTo>
                      <a:pt x="0" y="46"/>
                    </a:moveTo>
                    <a:cubicBezTo>
                      <a:pt x="45" y="23"/>
                      <a:pt x="91" y="0"/>
                      <a:pt x="136" y="0"/>
                    </a:cubicBezTo>
                    <a:cubicBezTo>
                      <a:pt x="181" y="0"/>
                      <a:pt x="226" y="23"/>
                      <a:pt x="272" y="46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948360" y="5226120"/>
                <a:ext cx="0" cy="1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56360" y="5154480"/>
                <a:ext cx="21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32360" y="486576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03760" y="5297400"/>
                <a:ext cx="157320" cy="289080"/>
              </a:xfrm>
              <a:custGeom>
                <a:avLst/>
                <a:gdLst/>
                <a:ahLst/>
                <a:rect l="l" t="t" r="r" b="b"/>
                <a:pathLst>
                  <a:path w="99" h="182">
                    <a:moveTo>
                      <a:pt x="99" y="0"/>
                    </a:moveTo>
                    <a:cubicBezTo>
                      <a:pt x="57" y="8"/>
                      <a:pt x="16" y="16"/>
                      <a:pt x="8" y="46"/>
                    </a:cubicBezTo>
                    <a:cubicBezTo>
                      <a:pt x="0" y="76"/>
                      <a:pt x="26" y="129"/>
                      <a:pt x="53" y="182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32360" y="5297400"/>
                <a:ext cx="432000" cy="73080"/>
              </a:xfrm>
              <a:custGeom>
                <a:avLst/>
                <a:gdLst/>
                <a:ahLst/>
                <a:rect l="l" t="t" r="r" b="b"/>
                <a:pathLst>
                  <a:path w="272" h="46">
                    <a:moveTo>
                      <a:pt x="0" y="46"/>
                    </a:moveTo>
                    <a:cubicBezTo>
                      <a:pt x="45" y="23"/>
                      <a:pt x="91" y="0"/>
                      <a:pt x="136" y="0"/>
                    </a:cubicBezTo>
                    <a:cubicBezTo>
                      <a:pt x="181" y="0"/>
                      <a:pt x="226" y="23"/>
                      <a:pt x="272" y="46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48360" y="5226120"/>
                <a:ext cx="0" cy="1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56360" y="5154480"/>
                <a:ext cx="21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503760" y="5297400"/>
                <a:ext cx="157320" cy="289080"/>
              </a:xfrm>
              <a:custGeom>
                <a:avLst/>
                <a:gdLst/>
                <a:ahLst/>
                <a:rect l="l" t="t" r="r" b="b"/>
                <a:pathLst>
                  <a:path w="99" h="182">
                    <a:moveTo>
                      <a:pt x="99" y="0"/>
                    </a:moveTo>
                    <a:cubicBezTo>
                      <a:pt x="57" y="8"/>
                      <a:pt x="16" y="16"/>
                      <a:pt x="8" y="46"/>
                    </a:cubicBezTo>
                    <a:cubicBezTo>
                      <a:pt x="0" y="76"/>
                      <a:pt x="26" y="129"/>
                      <a:pt x="53" y="182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32360" y="5297400"/>
                <a:ext cx="432000" cy="73080"/>
              </a:xfrm>
              <a:custGeom>
                <a:avLst/>
                <a:gdLst/>
                <a:ahLst/>
                <a:rect l="l" t="t" r="r" b="b"/>
                <a:pathLst>
                  <a:path w="272" h="46">
                    <a:moveTo>
                      <a:pt x="0" y="46"/>
                    </a:moveTo>
                    <a:cubicBezTo>
                      <a:pt x="45" y="23"/>
                      <a:pt x="91" y="0"/>
                      <a:pt x="136" y="0"/>
                    </a:cubicBezTo>
                    <a:cubicBezTo>
                      <a:pt x="181" y="0"/>
                      <a:pt x="226" y="23"/>
                      <a:pt x="272" y="46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48360" y="5226120"/>
                <a:ext cx="0" cy="1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156360" y="5154480"/>
                <a:ext cx="21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03760" y="5297400"/>
                <a:ext cx="157320" cy="289080"/>
              </a:xfrm>
              <a:custGeom>
                <a:avLst/>
                <a:gdLst/>
                <a:ahLst/>
                <a:rect l="l" t="t" r="r" b="b"/>
                <a:pathLst>
                  <a:path w="99" h="182">
                    <a:moveTo>
                      <a:pt x="99" y="0"/>
                    </a:moveTo>
                    <a:cubicBezTo>
                      <a:pt x="57" y="8"/>
                      <a:pt x="16" y="16"/>
                      <a:pt x="8" y="46"/>
                    </a:cubicBezTo>
                    <a:cubicBezTo>
                      <a:pt x="0" y="76"/>
                      <a:pt x="26" y="129"/>
                      <a:pt x="53" y="182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32360" y="5297400"/>
                <a:ext cx="432000" cy="73080"/>
              </a:xfrm>
              <a:custGeom>
                <a:avLst/>
                <a:gdLst/>
                <a:ahLst/>
                <a:rect l="l" t="t" r="r" b="b"/>
                <a:pathLst>
                  <a:path w="272" h="46">
                    <a:moveTo>
                      <a:pt x="0" y="46"/>
                    </a:moveTo>
                    <a:cubicBezTo>
                      <a:pt x="45" y="23"/>
                      <a:pt x="91" y="0"/>
                      <a:pt x="136" y="0"/>
                    </a:cubicBezTo>
                    <a:cubicBezTo>
                      <a:pt x="181" y="0"/>
                      <a:pt x="226" y="23"/>
                      <a:pt x="272" y="46"/>
                    </a:cubicBez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48360" y="5226120"/>
                <a:ext cx="0" cy="1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56360" y="5154480"/>
                <a:ext cx="21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7524720" y="50817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00720" y="5586480"/>
            <a:ext cx="464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219280" y="4029120"/>
            <a:ext cx="1800360" cy="1557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020000" y="4029120"/>
            <a:ext cx="1224000" cy="1557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20000" y="5586480"/>
            <a:ext cx="3636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4000" y="55864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3080" y="3956040"/>
            <a:ext cx="2878200" cy="1917720"/>
            <a:chOff x="73080" y="3956040"/>
            <a:chExt cx="2878200" cy="1917720"/>
          </a:xfrm>
        </p:grpSpPr>
        <p:sp>
          <p:nvSpPr>
            <p:cNvPr id="243" name=""/>
            <p:cNvSpPr/>
            <p:nvPr/>
          </p:nvSpPr>
          <p:spPr>
            <a:xfrm flipH="1">
              <a:off x="468000" y="3956040"/>
              <a:ext cx="2374920" cy="1054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360" y="5010120"/>
              <a:ext cx="2448000" cy="863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39640" y="4720680"/>
              <a:ext cx="2374920" cy="289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8360" y="5010120"/>
              <a:ext cx="363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080" y="47876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O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40000" y="53704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84360" y="39956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6000" y="47941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572000" y="55148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675640" y="55148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2360" y="39574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’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4000" y="39574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77328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1. Gã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2. Gãc bÑ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3. VÏ gã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Bµi tËp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a, VÏ gãc aOc, vÏ tia Ob n»m gi÷a hai tia Oa vµ O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b, VÏ gãc bÑt mOn, vÏ tia Ot vµ Ot’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19280" y="-171360"/>
            <a:ext cx="6059520" cy="115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.VnTimeH"/>
              </a:rPr>
              <a:t>TiÕt 17</a:t>
            </a:r>
            <a:r>
              <a:rPr b="0" lang="en-US" sz="4400" spc="-1" strike="noStrike">
                <a:solidFill>
                  <a:srgbClr val="ffff00"/>
                </a:solidFill>
                <a:latin typeface=".VnTimeH"/>
              </a:rPr>
              <a:t>: </a:t>
            </a:r>
            <a:r>
              <a:rPr b="1" lang="en-US" sz="4400" spc="-1" strike="noStrike">
                <a:solidFill>
                  <a:srgbClr val="ffff00"/>
                </a:solidFill>
                <a:latin typeface=".VnTimeH"/>
              </a:rPr>
              <a:t>Gã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1. Gã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2. Gãc bÑ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3. VÏ gã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Bµi tËp 7 (Sgk)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.VnHelvetIns"/>
              </a:rPr>
              <a:t>Quan s¸t h×nh vÏ råi ®iÒn vµo b¶ng sau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888840" y="111240"/>
            <a:ext cx="6059520" cy="115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.VnTimeH"/>
              </a:rPr>
              <a:t>TiÕt 17</a:t>
            </a:r>
            <a:r>
              <a:rPr b="0" lang="en-US" sz="4400" spc="-1" strike="noStrike">
                <a:solidFill>
                  <a:srgbClr val="ffff00"/>
                </a:solidFill>
                <a:latin typeface=".VnTimeH"/>
              </a:rPr>
              <a:t>: </a:t>
            </a:r>
            <a:r>
              <a:rPr b="1" lang="en-US" sz="4400" spc="-1" strike="noStrike">
                <a:solidFill>
                  <a:srgbClr val="ffff00"/>
                </a:solidFill>
                <a:latin typeface=".VnTimeH"/>
              </a:rPr>
              <a:t>Gã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50920" y="2050920"/>
          <a:ext cx="8785080" cy="4064040"/>
        </p:xfrm>
        <a:graphic>
          <a:graphicData uri="http://schemas.openxmlformats.org/drawingml/2006/table">
            <a:tbl>
              <a:tblPr/>
              <a:tblGrid>
                <a:gridCol w="865080"/>
                <a:gridCol w="3240000"/>
                <a:gridCol w="863640"/>
                <a:gridCol w="1368360"/>
                <a:gridCol w="24480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H×nh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Tªn gã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(c¸ch viÕt th.th­êng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Tªn ®Ønh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Tª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c¹nh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Tªn gã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.VnHelvetIns"/>
                        </a:rPr>
                        <a:t>(c¸ch viÕt k.hiÖu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.VnTime"/>
                        </a:rPr>
                        <a:t>(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ec85e"/>
                          </a:solidFill>
                          <a:latin typeface=".VnTime"/>
                        </a:rPr>
                        <a:t>Gãc yCz; gãc zCy;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ec85e"/>
                          </a:solidFill>
                          <a:latin typeface=".VnTime"/>
                        </a:rPr>
                        <a:t>Gãc 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ec85e"/>
                          </a:solidFill>
                          <a:latin typeface=".VnTime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ec85e"/>
                          </a:solidFill>
                          <a:latin typeface=".VnTime"/>
                        </a:rPr>
                        <a:t>Cy; Cz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ec85e"/>
                          </a:solidFill>
                          <a:latin typeface=".VnTime"/>
                        </a:rPr>
                        <a:t>yCz; zCy; 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.VnTime"/>
                        </a:rPr>
                        <a:t>(b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.VnTime"/>
                        </a:rPr>
                        <a:t>(c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8101080" y="29322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^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732360" y="3090960"/>
            <a:ext cx="21564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3090960"/>
            <a:ext cx="21600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451640" y="3090960"/>
            <a:ext cx="21600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69080" y="3090960"/>
            <a:ext cx="21600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732720" y="4365720"/>
            <a:ext cx="28728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20000" y="4362480"/>
            <a:ext cx="28872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596360" y="4362480"/>
            <a:ext cx="28872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85080" y="4362480"/>
            <a:ext cx="28728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688080" y="5373720"/>
            <a:ext cx="28728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75360" y="5373720"/>
            <a:ext cx="28908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380360" y="5373720"/>
            <a:ext cx="28728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67640" y="5373720"/>
            <a:ext cx="28908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8360" y="42181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^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83360" y="5229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^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92720" y="402588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MT; MP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58920" y="425772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Gãc TMP; gãc  PMT; gãc 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400536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00880" y="54021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xPy; yPx; P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522936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Gãc xPy; gãc yPx; gãc P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537372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53737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.VnHelvetIns"/>
              </a:rPr>
              <a:t>Px; P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86560" y="4437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TMP; PMT; M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260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.VnHelvetIns"/>
              </a:rPr>
              <a:t>(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03640" y="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.VnHelvetIns"/>
              </a:rPr>
              <a:t>(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52000" y="112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.VnHelvetIns"/>
              </a:rPr>
              <a:t>(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1468440"/>
            <a:ext cx="168480" cy="216000"/>
          </a:xfrm>
          <a:custGeom>
            <a:avLst/>
            <a:gdLst/>
            <a:ahLst/>
            <a:rect l="l" t="t" r="r" b="b"/>
            <a:pathLst>
              <a:path w="106" h="136">
                <a:moveTo>
                  <a:pt x="0" y="0"/>
                </a:moveTo>
                <a:cubicBezTo>
                  <a:pt x="38" y="11"/>
                  <a:pt x="76" y="22"/>
                  <a:pt x="91" y="45"/>
                </a:cubicBezTo>
                <a:cubicBezTo>
                  <a:pt x="106" y="68"/>
                  <a:pt x="98" y="102"/>
                  <a:pt x="91" y="136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1397160"/>
            <a:ext cx="168120" cy="215640"/>
          </a:xfrm>
          <a:custGeom>
            <a:avLst/>
            <a:gdLst/>
            <a:ahLst/>
            <a:rect l="l" t="t" r="r" b="b"/>
            <a:pathLst>
              <a:path w="106" h="136">
                <a:moveTo>
                  <a:pt x="0" y="0"/>
                </a:moveTo>
                <a:cubicBezTo>
                  <a:pt x="38" y="11"/>
                  <a:pt x="76" y="22"/>
                  <a:pt x="91" y="45"/>
                </a:cubicBezTo>
                <a:cubicBezTo>
                  <a:pt x="106" y="68"/>
                  <a:pt x="98" y="102"/>
                  <a:pt x="91" y="136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1684440"/>
            <a:ext cx="20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8360" y="531720"/>
            <a:ext cx="1582560" cy="115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1612800"/>
            <a:ext cx="2665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35280" y="676080"/>
            <a:ext cx="792360" cy="936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676440"/>
            <a:ext cx="1873080" cy="936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44280"/>
            <a:ext cx="863640" cy="165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740720" y="-27000"/>
            <a:ext cx="0" cy="172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740720" y="44280"/>
            <a:ext cx="1008000" cy="1224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4720" y="749160"/>
            <a:ext cx="358560" cy="157320"/>
          </a:xfrm>
          <a:custGeom>
            <a:avLst/>
            <a:gdLst/>
            <a:ahLst/>
            <a:rect l="l" t="t" r="r" b="b"/>
            <a:pathLst>
              <a:path w="226" h="99">
                <a:moveTo>
                  <a:pt x="0" y="45"/>
                </a:moveTo>
                <a:cubicBezTo>
                  <a:pt x="26" y="72"/>
                  <a:pt x="52" y="99"/>
                  <a:pt x="90" y="91"/>
                </a:cubicBezTo>
                <a:cubicBezTo>
                  <a:pt x="128" y="83"/>
                  <a:pt x="203" y="15"/>
                  <a:pt x="226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1640" y="969840"/>
            <a:ext cx="289080" cy="154080"/>
          </a:xfrm>
          <a:custGeom>
            <a:avLst/>
            <a:gdLst/>
            <a:ahLst/>
            <a:rect l="l" t="t" r="r" b="b"/>
            <a:pathLst>
              <a:path w="182" h="97">
                <a:moveTo>
                  <a:pt x="0" y="97"/>
                </a:moveTo>
                <a:cubicBezTo>
                  <a:pt x="8" y="55"/>
                  <a:pt x="16" y="14"/>
                  <a:pt x="46" y="7"/>
                </a:cubicBezTo>
                <a:cubicBezTo>
                  <a:pt x="76" y="0"/>
                  <a:pt x="129" y="26"/>
                  <a:pt x="182" y="52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596880"/>
            <a:ext cx="360360" cy="239760"/>
          </a:xfrm>
          <a:custGeom>
            <a:avLst/>
            <a:gdLst/>
            <a:ahLst/>
            <a:rect l="l" t="t" r="r" b="b"/>
            <a:pathLst>
              <a:path w="227" h="151">
                <a:moveTo>
                  <a:pt x="0" y="60"/>
                </a:moveTo>
                <a:cubicBezTo>
                  <a:pt x="49" y="30"/>
                  <a:pt x="98" y="0"/>
                  <a:pt x="136" y="15"/>
                </a:cubicBezTo>
                <a:cubicBezTo>
                  <a:pt x="174" y="30"/>
                  <a:pt x="200" y="90"/>
                  <a:pt x="227" y="151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8000" y="1397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3640" y="1397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1640" y="173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00720" y="13255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80360" y="15415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40720" y="11095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47640" y="244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24000" y="11811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z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532720" y="44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z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740720" y="-171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89800" y="-100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.VnTime"/>
              </a:rPr>
              <a:t>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52840" y="80316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956720" y="54936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0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620640"/>
            <a:ext cx="84978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.VnTime"/>
              </a:rPr>
              <a:t>1. Gã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.VnTime"/>
              </a:rPr>
              <a:t>2. Gãc bÑ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.VnTime"/>
              </a:rPr>
              <a:t>3. VÏ gã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.VnTime"/>
              </a:rPr>
              <a:t>4. §iÓm n»m bªn trong gã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§iÓm M n»m trong gãc x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tia OM n»m gi÷a 2 tia Ox, 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.VnTime"/>
              </a:rPr>
              <a:t>* Chó ý: Khi 2 c¹nh cña gãc kh«ng ®èi nhau míi cã ®iÓm n»m trong gã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1"/>
              </a:rPr>
              <a:t>Mêi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2"/>
              </a:rPr>
              <a:t> c¶ 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3"/>
              </a:rPr>
              <a:t>líp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4"/>
              </a:rPr>
              <a:t> 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5"/>
              </a:rPr>
              <a:t>xem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6"/>
              </a:rPr>
              <a:t> 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7"/>
              </a:rPr>
              <a:t>mét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8"/>
              </a:rPr>
              <a:t> ®o¹n 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9"/>
              </a:rPr>
              <a:t>phim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.VnLincoln"/>
                <a:hlinkClick r:id="rId10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3200" y="-176040"/>
            <a:ext cx="6059520" cy="115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.VnTimeH"/>
              </a:rPr>
              <a:t>TiÕt 17</a:t>
            </a:r>
            <a:r>
              <a:rPr b="0" lang="en-US" sz="4400" spc="-1" strike="noStrike">
                <a:solidFill>
                  <a:srgbClr val="ffff00"/>
                </a:solidFill>
                <a:latin typeface=".VnTimeH"/>
              </a:rPr>
              <a:t>: </a:t>
            </a:r>
            <a:r>
              <a:rPr b="1" lang="en-US" sz="4400" spc="-1" strike="noStrike">
                <a:solidFill>
                  <a:srgbClr val="ffff00"/>
                </a:solidFill>
                <a:latin typeface=".VnTimeH"/>
              </a:rPr>
              <a:t>Gã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084720" y="1125360"/>
            <a:ext cx="1872000" cy="1151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84720" y="2276640"/>
            <a:ext cx="2087640" cy="936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96360" y="2363760"/>
            <a:ext cx="3636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53440" y="974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9636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51640" y="1909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2276640"/>
            <a:ext cx="244800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88000" y="1484280"/>
            <a:ext cx="367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00720" y="1117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24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0:19:29Z</dcterms:created>
  <dc:creator>Đào Mạnh Hồng</dc:creator>
  <dc:description/>
  <dc:language>en-US</dc:language>
  <cp:lastModifiedBy>abc</cp:lastModifiedBy>
  <dcterms:modified xsi:type="dcterms:W3CDTF">2009-03-25T00:19:32Z</dcterms:modified>
  <cp:revision>65</cp:revision>
  <dc:subject/>
  <dc:title>TiÕt 17: Gãc</dc:title>
</cp:coreProperties>
</file>